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gif" ContentType="image/gif"/>
  <Override PartName="/ppt/media/image25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72.gif" ContentType="image/gif"/>
  <Override PartName="/ppt/media/image65.png" ContentType="image/png"/>
  <Override PartName="/ppt/media/image27.png" ContentType="image/png"/>
  <Override PartName="/ppt/media/image33.jpeg" ContentType="image/jpe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7.png" ContentType="image/png"/>
  <Override PartName="/ppt/media/image64.png" ContentType="image/png"/>
  <Override PartName="/ppt/media/image60.jpeg" ContentType="image/jpeg"/>
  <Override PartName="/ppt/media/image30.png" ContentType="image/png"/>
  <Override PartName="/ppt/media/image66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3.png" ContentType="image/png"/>
  <Override PartName="/ppt/media/image16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4759-0ECA-48A5-A241-B03167FB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56F-8DEB-441F-9002-49ABC839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DF2-9FCE-4A1B-850A-31782C71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712-267E-47CB-B24C-98189DDC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0653-EA9D-4A18-9976-426C0A8F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95C8-7767-4454-9A1A-1242BF0F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8D59-E8A4-4CD1-ACCB-16A1418A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A006-D742-4F08-B682-D681DC68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A31F-8566-42E7-965E-AA081E90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484E-D5D7-405C-B3D0-D4CBF9E4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817B-13CC-4A2D-847D-8F3584A0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787-CDC3-44FD-BD1B-5F935116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CBB1-A837-48CA-8637-1D9FEE5D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FB89-C23D-49E3-B6A3-F4F80692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A3A8-2F48-4EDA-AA24-D449A501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C192-CD32-42FC-8C0A-94D58900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62F5-5DC5-43D0-BEC9-DE1A66DE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56F08-7618-4577-A6F9-DB550360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E9BAA-CA81-40B8-B94B-E9FE597A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FD8EF-2AE6-470A-A32D-07561F7A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CBCD9-B167-4BCF-869C-FB37F60C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EF870-8FB0-40E7-A960-52D3B474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AC5F-C336-49E3-8AB2-981ADB8D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AAE95-A892-47EF-9E15-6D2885A7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F6C62-E922-45D2-ACC6-27BD5B28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9496E-8F81-4654-981C-4F4BE4E7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7FC23-3D33-452D-A8E4-7AA25EB7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3A787-70F3-437A-B6C5-984E7C28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DF69F-C1B5-46ED-AFB2-B13BA1E6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C3DBE-4C1E-4947-BD70-CE1822E0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882B4-B24A-42ED-B68B-76D3554E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E1E9C-0FD3-4E72-87C7-4448587D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52FE2-D26D-463F-A0E8-500C8BA8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D1B1-6D76-419C-9555-FB035C10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8CB68-A6DA-4878-9F43-93A3378A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97EF3-28F3-4FAC-8A1E-94D1BB20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D758B-33F3-45BB-BFC4-77C3F570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F31FD-27F5-48F2-8FA2-687981B7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CB787-C45B-485F-9BE6-F1702E45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A2EA5-FEFD-4B47-A66A-A2D80809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52350-0A65-460B-AA8B-F6FB1085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35B69-27DC-4B86-9F5A-E6529298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2E028-B242-4BBF-AC99-A28AE406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3B88-9AEF-4837-9381-3CE460E6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328-CE86-4446-A0A1-D4FD7306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EE5-3F90-4B5E-AAC0-EA2332F6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122B-9CC6-43E9-BF3B-B21E76BF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A995-ECCC-475D-9633-AEB237FD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3.xml"/><Relationship Id="rId25" Type="http://schemas.openxmlformats.org/officeDocument/2006/relationships/slideLayout" Target="../slideLayouts/slideLayout14.xml"/><Relationship Id="rId26" Type="http://schemas.openxmlformats.org/officeDocument/2006/relationships/slideLayout" Target="../slideLayouts/slideLayout15.xml"/><Relationship Id="rId27" Type="http://schemas.openxmlformats.org/officeDocument/2006/relationships/slideLayout" Target="../slideLayouts/slideLayout16.xml"/><Relationship Id="rId28" Type="http://schemas.openxmlformats.org/officeDocument/2006/relationships/slideLayout" Target="../slideLayouts/slideLayout17.xml"/><Relationship Id="rId29" Type="http://schemas.openxmlformats.org/officeDocument/2006/relationships/slideLayout" Target="../slideLayouts/slideLayout18.xml"/><Relationship Id="rId30" Type="http://schemas.openxmlformats.org/officeDocument/2006/relationships/slideLayout" Target="../slideLayouts/slideLayout19.xml"/><Relationship Id="rId31" Type="http://schemas.openxmlformats.org/officeDocument/2006/relationships/slideLayout" Target="../slideLayouts/slideLayout20.xml"/><Relationship Id="rId32" Type="http://schemas.openxmlformats.org/officeDocument/2006/relationships/slideLayout" Target="../slideLayouts/slideLayout21.xml"/><Relationship Id="rId33" Type="http://schemas.openxmlformats.org/officeDocument/2006/relationships/slideLayout" Target="../slideLayouts/slideLayout22.xml"/><Relationship Id="rId34" Type="http://schemas.openxmlformats.org/officeDocument/2006/relationships/slideLayout" Target="../slideLayouts/slideLayout23.xml"/><Relationship Id="rId3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25.xml"/><Relationship Id="rId33" Type="http://schemas.openxmlformats.org/officeDocument/2006/relationships/slideLayout" Target="../slideLayouts/slideLayout26.xml"/><Relationship Id="rId34" Type="http://schemas.openxmlformats.org/officeDocument/2006/relationships/slideLayout" Target="../slideLayouts/slideLayout27.xml"/><Relationship Id="rId35" Type="http://schemas.openxmlformats.org/officeDocument/2006/relationships/slideLayout" Target="../slideLayouts/slideLayout28.xml"/><Relationship Id="rId36" Type="http://schemas.openxmlformats.org/officeDocument/2006/relationships/slideLayout" Target="../slideLayouts/slideLayout29.xml"/><Relationship Id="rId37" Type="http://schemas.openxmlformats.org/officeDocument/2006/relationships/slideLayout" Target="../slideLayouts/slideLayout30.xml"/><Relationship Id="rId38" Type="http://schemas.openxmlformats.org/officeDocument/2006/relationships/slideLayout" Target="../slideLayouts/slideLayout31.xml"/><Relationship Id="rId39" Type="http://schemas.openxmlformats.org/officeDocument/2006/relationships/slideLayout" Target="../slideLayouts/slideLayout32.xml"/><Relationship Id="rId40" Type="http://schemas.openxmlformats.org/officeDocument/2006/relationships/slideLayout" Target="../slideLayouts/slideLayout33.xml"/><Relationship Id="rId41" Type="http://schemas.openxmlformats.org/officeDocument/2006/relationships/slideLayout" Target="../slideLayouts/slideLayout34.xml"/><Relationship Id="rId42" Type="http://schemas.openxmlformats.org/officeDocument/2006/relationships/slideLayout" Target="../slideLayouts/slideLayout35.xml"/><Relationship Id="rId4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37.xml"/><Relationship Id="rId33" Type="http://schemas.openxmlformats.org/officeDocument/2006/relationships/slideLayout" Target="../slideLayouts/slideLayout38.xml"/><Relationship Id="rId34" Type="http://schemas.openxmlformats.org/officeDocument/2006/relationships/slideLayout" Target="../slideLayouts/slideLayout39.xml"/><Relationship Id="rId35" Type="http://schemas.openxmlformats.org/officeDocument/2006/relationships/slideLayout" Target="../slideLayouts/slideLayout40.xml"/><Relationship Id="rId36" Type="http://schemas.openxmlformats.org/officeDocument/2006/relationships/slideLayout" Target="../slideLayouts/slideLayout41.xml"/><Relationship Id="rId37" Type="http://schemas.openxmlformats.org/officeDocument/2006/relationships/slideLayout" Target="../slideLayouts/slideLayout42.xml"/><Relationship Id="rId38" Type="http://schemas.openxmlformats.org/officeDocument/2006/relationships/slideLayout" Target="../slideLayouts/slideLayout43.xml"/><Relationship Id="rId39" Type="http://schemas.openxmlformats.org/officeDocument/2006/relationships/slideLayout" Target="../slideLayouts/slideLayout44.xml"/><Relationship Id="rId40" Type="http://schemas.openxmlformats.org/officeDocument/2006/relationships/slideLayout" Target="../slideLayouts/slideLayout45.xml"/><Relationship Id="rId41" Type="http://schemas.openxmlformats.org/officeDocument/2006/relationships/slideLayout" Target="../slideLayouts/slideLayout46.xml"/><Relationship Id="rId42" Type="http://schemas.openxmlformats.org/officeDocument/2006/relationships/slideLayout" Target="../slideLayouts/slideLayout47.xml"/><Relationship Id="rId4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cff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4f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DFE1-B41D-47F8-B7F1-D08294C9A0C0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cff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4f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E8B2-95C1-4A07-ADC1-BE0D68816A47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4"/>
    <p:sldLayoutId id="2147483663" r:id="rId25"/>
    <p:sldLayoutId id="2147483664" r:id="rId26"/>
    <p:sldLayoutId id="2147483665" r:id="rId27"/>
    <p:sldLayoutId id="2147483666" r:id="rId28"/>
    <p:sldLayoutId id="2147483667" r:id="rId29"/>
    <p:sldLayoutId id="2147483668" r:id="rId30"/>
    <p:sldLayoutId id="2147483669" r:id="rId31"/>
    <p:sldLayoutId id="2147483670" r:id="rId32"/>
    <p:sldLayoutId id="2147483671" r:id="rId33"/>
    <p:sldLayoutId id="2147483672" r:id="rId34"/>
    <p:sldLayoutId id="2147483673" r:id="rId3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cff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37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138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145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4f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48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55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3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164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165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7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68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0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71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3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74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6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77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9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80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2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83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5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86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F831-7A94-48EB-A669-EB0FAE6AC218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2"/>
    <p:sldLayoutId id="2147483676" r:id="rId33"/>
    <p:sldLayoutId id="2147483677" r:id="rId34"/>
    <p:sldLayoutId id="2147483678" r:id="rId35"/>
    <p:sldLayoutId id="2147483679" r:id="rId36"/>
    <p:sldLayoutId id="2147483680" r:id="rId37"/>
    <p:sldLayoutId id="2147483681" r:id="rId38"/>
    <p:sldLayoutId id="2147483682" r:id="rId39"/>
    <p:sldLayoutId id="2147483683" r:id="rId40"/>
    <p:sldLayoutId id="2147483684" r:id="rId41"/>
    <p:sldLayoutId id="2147483685" r:id="rId42"/>
    <p:sldLayoutId id="2147483686" r:id="rId4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cff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230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31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7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238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4f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41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248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6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257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258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0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261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3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264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6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267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9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270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2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273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5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276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279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0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1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2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2D1D-65CE-4854-A880-B8388EE1B25C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2"/>
    <p:sldLayoutId id="2147483689" r:id="rId33"/>
    <p:sldLayoutId id="2147483690" r:id="rId34"/>
    <p:sldLayoutId id="2147483691" r:id="rId35"/>
    <p:sldLayoutId id="2147483692" r:id="rId36"/>
    <p:sldLayoutId id="2147483693" r:id="rId37"/>
    <p:sldLayoutId id="2147483694" r:id="rId38"/>
    <p:sldLayoutId id="2147483695" r:id="rId39"/>
    <p:sldLayoutId id="2147483696" r:id="rId40"/>
    <p:sldLayoutId id="2147483697" r:id="rId41"/>
    <p:sldLayoutId id="2147483698" r:id="rId42"/>
    <p:sldLayoutId id="2147483699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55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0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6000" y="676080"/>
            <a:ext cx="7416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Химия  любви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23" name="Рисунок 6" descr="Это Я - сентябрь 2012.JPG"/>
          <p:cNvPicPr/>
          <p:nvPr/>
        </p:nvPicPr>
        <p:blipFill>
          <a:blip r:embed="rId2"/>
          <a:stretch/>
        </p:blipFill>
        <p:spPr>
          <a:xfrm>
            <a:off x="642960" y="3000240"/>
            <a:ext cx="1731960" cy="259740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2643120" y="3143160"/>
            <a:ext cx="62150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дежда Валентинов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595959"/>
                </a:solidFill>
                <a:latin typeface="Arial"/>
                <a:ea typeface="Arial"/>
              </a:rPr>
              <a:t>Учитель химии ГБОУ СОШ № 422 Кронштадтского райо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Box 5"/>
          <p:cNvSpPr/>
          <p:nvPr/>
        </p:nvSpPr>
        <p:spPr>
          <a:xfrm>
            <a:off x="3286080" y="5783400"/>
            <a:ext cx="264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Санкт-Петербур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Рисунок 7" descr="Палитра художника 2.jpeg"/>
          <p:cNvPicPr/>
          <p:nvPr/>
        </p:nvPicPr>
        <p:blipFill>
          <a:blip r:embed="rId2"/>
          <a:stretch/>
        </p:blipFill>
        <p:spPr>
          <a:xfrm>
            <a:off x="2895480" y="2146320"/>
            <a:ext cx="3432240" cy="2425680"/>
          </a:xfrm>
          <a:prstGeom prst="rect">
            <a:avLst/>
          </a:prstGeom>
          <a:ln w="0">
            <a:noFill/>
          </a:ln>
        </p:spPr>
      </p:pic>
      <p:grpSp>
        <p:nvGrpSpPr>
          <p:cNvPr id="447" name="Овал 1"/>
          <p:cNvGrpSpPr/>
          <p:nvPr/>
        </p:nvGrpSpPr>
        <p:grpSpPr>
          <a:xfrm>
            <a:off x="4108320" y="822240"/>
            <a:ext cx="1067040" cy="1000080"/>
            <a:chOff x="4108320" y="822240"/>
            <a:chExt cx="1067040" cy="1000080"/>
          </a:xfrm>
        </p:grpSpPr>
        <p:pic>
          <p:nvPicPr>
            <p:cNvPr id="448" name="Овал 1" descr=""/>
            <p:cNvPicPr/>
            <p:nvPr/>
          </p:nvPicPr>
          <p:blipFill>
            <a:blip r:embed="rId3"/>
            <a:stretch/>
          </p:blipFill>
          <p:spPr>
            <a:xfrm>
              <a:off x="4108320" y="82224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4289400" y="99360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0" name="Овал 2"/>
          <p:cNvGrpSpPr/>
          <p:nvPr/>
        </p:nvGrpSpPr>
        <p:grpSpPr>
          <a:xfrm>
            <a:off x="4108320" y="5035680"/>
            <a:ext cx="1067040" cy="1000080"/>
            <a:chOff x="4108320" y="5035680"/>
            <a:chExt cx="1067040" cy="1000080"/>
          </a:xfrm>
        </p:grpSpPr>
        <p:pic>
          <p:nvPicPr>
            <p:cNvPr id="451" name="Овал 2" descr=""/>
            <p:cNvPicPr/>
            <p:nvPr/>
          </p:nvPicPr>
          <p:blipFill>
            <a:blip r:embed="rId4"/>
            <a:stretch/>
          </p:blipFill>
          <p:spPr>
            <a:xfrm>
              <a:off x="4108320" y="503568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4289400" y="5208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3" name="Овал 3"/>
          <p:cNvGrpSpPr/>
          <p:nvPr/>
        </p:nvGrpSpPr>
        <p:grpSpPr>
          <a:xfrm>
            <a:off x="1962000" y="1962000"/>
            <a:ext cx="1073160" cy="1000440"/>
            <a:chOff x="1962000" y="1962000"/>
            <a:chExt cx="1073160" cy="1000440"/>
          </a:xfrm>
        </p:grpSpPr>
        <p:pic>
          <p:nvPicPr>
            <p:cNvPr id="454" name="Овал 3" descr=""/>
            <p:cNvPicPr/>
            <p:nvPr/>
          </p:nvPicPr>
          <p:blipFill>
            <a:blip r:embed="rId5"/>
            <a:stretch/>
          </p:blipFill>
          <p:spPr>
            <a:xfrm>
              <a:off x="1962000" y="1962000"/>
              <a:ext cx="1073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2146320" y="213660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6" name="Овал 4"/>
          <p:cNvGrpSpPr/>
          <p:nvPr/>
        </p:nvGrpSpPr>
        <p:grpSpPr>
          <a:xfrm>
            <a:off x="6254640" y="1895400"/>
            <a:ext cx="1067040" cy="993960"/>
            <a:chOff x="6254640" y="1895400"/>
            <a:chExt cx="1067040" cy="993960"/>
          </a:xfrm>
        </p:grpSpPr>
        <p:pic>
          <p:nvPicPr>
            <p:cNvPr id="457" name="Овал 4" descr=""/>
            <p:cNvPicPr/>
            <p:nvPr/>
          </p:nvPicPr>
          <p:blipFill>
            <a:blip r:embed="rId6"/>
            <a:stretch/>
          </p:blipFill>
          <p:spPr>
            <a:xfrm>
              <a:off x="6254640" y="1895400"/>
              <a:ext cx="10670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6432480" y="2065320"/>
              <a:ext cx="7081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9" name="Овал 5"/>
          <p:cNvGrpSpPr/>
          <p:nvPr/>
        </p:nvGrpSpPr>
        <p:grpSpPr>
          <a:xfrm>
            <a:off x="1962000" y="3895560"/>
            <a:ext cx="1073160" cy="1000440"/>
            <a:chOff x="1962000" y="3895560"/>
            <a:chExt cx="1073160" cy="1000440"/>
          </a:xfrm>
        </p:grpSpPr>
        <p:pic>
          <p:nvPicPr>
            <p:cNvPr id="460" name="Овал 5" descr=""/>
            <p:cNvPicPr/>
            <p:nvPr/>
          </p:nvPicPr>
          <p:blipFill>
            <a:blip r:embed="rId7"/>
            <a:stretch/>
          </p:blipFill>
          <p:spPr>
            <a:xfrm>
              <a:off x="1962000" y="3895560"/>
              <a:ext cx="1073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2146320" y="4065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2" name="Овал 6"/>
          <p:cNvGrpSpPr/>
          <p:nvPr/>
        </p:nvGrpSpPr>
        <p:grpSpPr>
          <a:xfrm>
            <a:off x="6254640" y="3895560"/>
            <a:ext cx="1067040" cy="1000440"/>
            <a:chOff x="6254640" y="3895560"/>
            <a:chExt cx="1067040" cy="1000440"/>
          </a:xfrm>
        </p:grpSpPr>
        <p:pic>
          <p:nvPicPr>
            <p:cNvPr id="463" name="Овал 6" descr=""/>
            <p:cNvPicPr/>
            <p:nvPr/>
          </p:nvPicPr>
          <p:blipFill>
            <a:blip r:embed="rId8"/>
            <a:stretch/>
          </p:blipFill>
          <p:spPr>
            <a:xfrm>
              <a:off x="6254640" y="3895560"/>
              <a:ext cx="106704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432480" y="4065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465" name="Прямая со стрелкой 20"/>
          <p:cNvCxnSpPr/>
          <p:nvPr/>
        </p:nvCxnSpPr>
        <p:spPr>
          <a:xfrm flipV="1">
            <a:off x="2498760" y="2928600"/>
            <a:ext cx="2160" cy="100224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6" name="Прямая со стрелкой 22"/>
          <p:cNvCxnSpPr/>
          <p:nvPr/>
        </p:nvCxnSpPr>
        <p:spPr>
          <a:xfrm flipH="1">
            <a:off x="2854080" y="132084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7" name="Прямая со стрелкой 24"/>
          <p:cNvCxnSpPr/>
          <p:nvPr/>
        </p:nvCxnSpPr>
        <p:spPr>
          <a:xfrm>
            <a:off x="5143680" y="1320840"/>
            <a:ext cx="1289520" cy="74520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8" name="Прямая со стрелкой 26"/>
          <p:cNvCxnSpPr/>
          <p:nvPr/>
        </p:nvCxnSpPr>
        <p:spPr>
          <a:xfrm flipV="1">
            <a:off x="6786720" y="2857680"/>
            <a:ext cx="2160" cy="107316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9" name="Прямая со стрелкой 28"/>
          <p:cNvCxnSpPr/>
          <p:nvPr/>
        </p:nvCxnSpPr>
        <p:spPr>
          <a:xfrm flipH="1">
            <a:off x="5143320" y="472140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70" name="Прямая со стрелкой 30"/>
          <p:cNvCxnSpPr/>
          <p:nvPr/>
        </p:nvCxnSpPr>
        <p:spPr>
          <a:xfrm>
            <a:off x="2854440" y="472140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71" name="TextBox 25"/>
          <p:cNvSpPr/>
          <p:nvPr/>
        </p:nvSpPr>
        <p:spPr>
          <a:xfrm>
            <a:off x="2143080" y="71280"/>
            <a:ext cx="4857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Эр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ихийная, восторженн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1500120" y="5965920"/>
            <a:ext cx="6286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г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ссудочная, реалистичная, практичн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Box 29"/>
          <p:cNvSpPr/>
          <p:nvPr/>
        </p:nvSpPr>
        <p:spPr>
          <a:xfrm>
            <a:off x="71280" y="1228680"/>
            <a:ext cx="2214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вязчивая, болезненная стра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Box 31"/>
          <p:cNvSpPr/>
          <p:nvPr/>
        </p:nvSpPr>
        <p:spPr>
          <a:xfrm>
            <a:off x="0" y="4643280"/>
            <a:ext cx="242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юду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бовь–иг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Box 32"/>
          <p:cNvSpPr/>
          <p:nvPr/>
        </p:nvSpPr>
        <p:spPr>
          <a:xfrm>
            <a:off x="6215040" y="4714920"/>
            <a:ext cx="3000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торг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бовь–не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TextBox 33"/>
          <p:cNvSpPr/>
          <p:nvPr/>
        </p:nvSpPr>
        <p:spPr>
          <a:xfrm>
            <a:off x="6929280" y="107172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гап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жертвенная, бескорыстна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TextBox 3" descr=""/>
          <p:cNvPicPr/>
          <p:nvPr/>
        </p:nvPicPr>
        <p:blipFill>
          <a:blip r:embed="rId1"/>
          <a:stretch/>
        </p:blipFill>
        <p:spPr>
          <a:xfrm>
            <a:off x="212760" y="85680"/>
            <a:ext cx="8791560" cy="1523880"/>
          </a:xfrm>
          <a:prstGeom prst="rect">
            <a:avLst/>
          </a:prstGeom>
          <a:ln w="0">
            <a:noFill/>
          </a:ln>
        </p:spPr>
      </p:pic>
      <p:sp>
        <p:nvSpPr>
          <p:cNvPr id="478" name="Цилиндр 26"/>
          <p:cNvSpPr/>
          <p:nvPr/>
        </p:nvSpPr>
        <p:spPr>
          <a:xfrm>
            <a:off x="735804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Цилиндр 27"/>
          <p:cNvSpPr/>
          <p:nvPr/>
        </p:nvSpPr>
        <p:spPr>
          <a:xfrm>
            <a:off x="1214280" y="392904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Цилиндр 28"/>
          <p:cNvSpPr/>
          <p:nvPr/>
        </p:nvSpPr>
        <p:spPr>
          <a:xfrm>
            <a:off x="735804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ff99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Цилиндр 29"/>
          <p:cNvSpPr/>
          <p:nvPr/>
        </p:nvSpPr>
        <p:spPr>
          <a:xfrm>
            <a:off x="1214280" y="5214960"/>
            <a:ext cx="571680" cy="1428840"/>
          </a:xfrm>
          <a:prstGeom prst="can">
            <a:avLst>
              <a:gd name="adj" fmla="val 10000"/>
            </a:avLst>
          </a:prstGeom>
          <a:solidFill>
            <a:srgbClr val="ffcc66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0" y="1868400"/>
            <a:ext cx="9144000" cy="12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FeCl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Verdana"/>
                <a:ea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+ 3 NaO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Fe(OH)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Verdana"/>
                <a:ea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+ 3 Na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Fe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  <a:ea typeface="Calibri"/>
              </a:rPr>
              <a:t>3+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 + 3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OH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  <a:ea typeface="Calibri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Fe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OH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)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Verdana"/>
                <a:ea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Стрелка вправо 22"/>
          <p:cNvSpPr/>
          <p:nvPr/>
        </p:nvSpPr>
        <p:spPr>
          <a:xfrm>
            <a:off x="3500280" y="5072040"/>
            <a:ext cx="2509920" cy="276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Стрелка углом 24"/>
          <p:cNvSpPr/>
          <p:nvPr/>
        </p:nvSpPr>
        <p:spPr>
          <a:xfrm rot="5400000">
            <a:off x="785160" y="3357360"/>
            <a:ext cx="571680" cy="1143000"/>
          </a:xfrm>
          <a:custGeom>
            <a:avLst/>
            <a:gdLst/>
            <a:ahLst/>
            <a:rect l="l" t="t" r="r" b="b"/>
            <a:pathLst>
              <a:path w="571500" h="1143000">
                <a:moveTo>
                  <a:pt x="0" y="11430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Box 30"/>
          <p:cNvSpPr/>
          <p:nvPr/>
        </p:nvSpPr>
        <p:spPr>
          <a:xfrm>
            <a:off x="1928880" y="5929200"/>
            <a:ext cx="200016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FeCl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Verdana"/>
                <a:ea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TextBox 31"/>
          <p:cNvSpPr/>
          <p:nvPr/>
        </p:nvSpPr>
        <p:spPr>
          <a:xfrm>
            <a:off x="5143680" y="5857920"/>
            <a:ext cx="1857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TextBox 33"/>
          <p:cNvSpPr/>
          <p:nvPr/>
        </p:nvSpPr>
        <p:spPr>
          <a:xfrm>
            <a:off x="4714920" y="414324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Стрелка вниз 35"/>
          <p:cNvSpPr/>
          <p:nvPr/>
        </p:nvSpPr>
        <p:spPr>
          <a:xfrm>
            <a:off x="7000920" y="5857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99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Box 36"/>
          <p:cNvSpPr/>
          <p:nvPr/>
        </p:nvSpPr>
        <p:spPr>
          <a:xfrm>
            <a:off x="0" y="292896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TextBox 18" descr=""/>
          <p:cNvPicPr/>
          <p:nvPr/>
        </p:nvPicPr>
        <p:blipFill>
          <a:blip r:embed="rId2"/>
          <a:stretch/>
        </p:blipFill>
        <p:spPr>
          <a:xfrm>
            <a:off x="4846680" y="5705640"/>
            <a:ext cx="2303280" cy="860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TextBox 3" descr=""/>
          <p:cNvPicPr/>
          <p:nvPr/>
        </p:nvPicPr>
        <p:blipFill>
          <a:blip r:embed="rId1"/>
          <a:stretch/>
        </p:blipFill>
        <p:spPr>
          <a:xfrm>
            <a:off x="182520" y="85680"/>
            <a:ext cx="9004320" cy="1523880"/>
          </a:xfrm>
          <a:prstGeom prst="rect">
            <a:avLst/>
          </a:prstGeom>
          <a:ln w="0">
            <a:noFill/>
          </a:ln>
        </p:spPr>
      </p:pic>
      <p:sp>
        <p:nvSpPr>
          <p:cNvPr id="492" name="Цилиндр 26"/>
          <p:cNvSpPr/>
          <p:nvPr/>
        </p:nvSpPr>
        <p:spPr>
          <a:xfrm>
            <a:off x="735804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Цилиндр 27"/>
          <p:cNvSpPr/>
          <p:nvPr/>
        </p:nvSpPr>
        <p:spPr>
          <a:xfrm>
            <a:off x="1214280" y="392904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Цилиндр 28"/>
          <p:cNvSpPr/>
          <p:nvPr/>
        </p:nvSpPr>
        <p:spPr>
          <a:xfrm>
            <a:off x="735804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00b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Цилиндр 29"/>
          <p:cNvSpPr/>
          <p:nvPr/>
        </p:nvSpPr>
        <p:spPr>
          <a:xfrm>
            <a:off x="1214280" y="5214960"/>
            <a:ext cx="571680" cy="1428840"/>
          </a:xfrm>
          <a:prstGeom prst="can">
            <a:avLst>
              <a:gd name="adj" fmla="val 10000"/>
            </a:avLst>
          </a:prstGeom>
          <a:solidFill>
            <a:srgbClr val="ffcc66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12"/>
          <p:cNvSpPr/>
          <p:nvPr/>
        </p:nvSpPr>
        <p:spPr>
          <a:xfrm>
            <a:off x="285840" y="1714680"/>
            <a:ext cx="85723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e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+ 2 NaO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Fe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+ 2 Na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e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+ 2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H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Fe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H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Стрелка вправо 22"/>
          <p:cNvSpPr/>
          <p:nvPr/>
        </p:nvSpPr>
        <p:spPr>
          <a:xfrm>
            <a:off x="3500280" y="5072040"/>
            <a:ext cx="2509920" cy="276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Стрелка углом 24"/>
          <p:cNvSpPr/>
          <p:nvPr/>
        </p:nvSpPr>
        <p:spPr>
          <a:xfrm rot="5400000">
            <a:off x="785160" y="3357360"/>
            <a:ext cx="571680" cy="1143000"/>
          </a:xfrm>
          <a:custGeom>
            <a:avLst/>
            <a:gdLst/>
            <a:ahLst/>
            <a:rect l="l" t="t" r="r" b="b"/>
            <a:pathLst>
              <a:path w="571500" h="1143000">
                <a:moveTo>
                  <a:pt x="0" y="11430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928880" y="5929200"/>
            <a:ext cx="200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Fe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5143680" y="5857920"/>
            <a:ext cx="1857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Box 33"/>
          <p:cNvSpPr/>
          <p:nvPr/>
        </p:nvSpPr>
        <p:spPr>
          <a:xfrm>
            <a:off x="4714920" y="414324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Стрелка вниз 35"/>
          <p:cNvSpPr/>
          <p:nvPr/>
        </p:nvSpPr>
        <p:spPr>
          <a:xfrm>
            <a:off x="7000920" y="5857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b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Box 36"/>
          <p:cNvSpPr/>
          <p:nvPr/>
        </p:nvSpPr>
        <p:spPr>
          <a:xfrm>
            <a:off x="214200" y="292896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4" name="TextBox 18" descr=""/>
          <p:cNvPicPr/>
          <p:nvPr/>
        </p:nvPicPr>
        <p:blipFill>
          <a:blip r:embed="rId2"/>
          <a:stretch/>
        </p:blipFill>
        <p:spPr>
          <a:xfrm>
            <a:off x="4632480" y="5705640"/>
            <a:ext cx="2304720" cy="860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5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Любовь  как  притяжение 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506" name="Рисунок 8" descr="5 видов любви. Классификация психологов "/>
          <p:cNvPicPr/>
          <p:nvPr/>
        </p:nvPicPr>
        <p:blipFill>
          <a:blip r:embed="rId2"/>
          <a:stretch/>
        </p:blipFill>
        <p:spPr>
          <a:xfrm>
            <a:off x="1952640" y="2381400"/>
            <a:ext cx="5238720" cy="4190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Рисунок 9" descr="http://www.sev-chem.narod.ru/Different/love.files/image002.gif"/>
          <p:cNvPicPr/>
          <p:nvPr/>
        </p:nvPicPr>
        <p:blipFill>
          <a:blip r:embed="rId1"/>
          <a:stretch/>
        </p:blipFill>
        <p:spPr>
          <a:xfrm>
            <a:off x="209520" y="2500200"/>
            <a:ext cx="2290680" cy="1000080"/>
          </a:xfrm>
          <a:prstGeom prst="rect">
            <a:avLst/>
          </a:prstGeom>
          <a:ln w="0">
            <a:noFill/>
          </a:ln>
        </p:spPr>
      </p:pic>
      <p:sp>
        <p:nvSpPr>
          <p:cNvPr id="508" name="TextBox 10"/>
          <p:cNvSpPr/>
          <p:nvPr/>
        </p:nvSpPr>
        <p:spPr>
          <a:xfrm>
            <a:off x="2714760" y="2500200"/>
            <a:ext cx="628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2-фенилэтиламин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- «Вещество любви» синтезируется в организм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а начальном периоде возникновения чувства любв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11"/>
          <p:cNvSpPr/>
          <p:nvPr/>
        </p:nvSpPr>
        <p:spPr>
          <a:xfrm>
            <a:off x="357120" y="3643200"/>
            <a:ext cx="857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Эндорфин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- «гормоны радости». По мнению некоторых ученых, за развитие последующей влюбленности ответственны эндорфины, т.е. это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«молекулы долговременных любовных отношений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14"/>
          <p:cNvSpPr/>
          <p:nvPr/>
        </p:nvSpPr>
        <p:spPr>
          <a:xfrm>
            <a:off x="2714760" y="201600"/>
            <a:ext cx="3714480" cy="58140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щества любв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16"/>
          <p:cNvSpPr/>
          <p:nvPr/>
        </p:nvSpPr>
        <p:spPr>
          <a:xfrm>
            <a:off x="214200" y="1100160"/>
            <a:ext cx="207180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мфетам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17"/>
          <p:cNvSpPr/>
          <p:nvPr/>
        </p:nvSpPr>
        <p:spPr>
          <a:xfrm>
            <a:off x="2000160" y="1814400"/>
            <a:ext cx="207180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еромо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18"/>
          <p:cNvSpPr/>
          <p:nvPr/>
        </p:nvSpPr>
        <p:spPr>
          <a:xfrm>
            <a:off x="5643720" y="1814400"/>
            <a:ext cx="207144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фродизиа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19"/>
          <p:cNvSpPr/>
          <p:nvPr/>
        </p:nvSpPr>
        <p:spPr>
          <a:xfrm>
            <a:off x="3571920" y="1071720"/>
            <a:ext cx="207180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ндорф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0"/>
          <p:cNvSpPr/>
          <p:nvPr/>
        </p:nvSpPr>
        <p:spPr>
          <a:xfrm>
            <a:off x="6643800" y="1071720"/>
            <a:ext cx="207144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кситоц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2"/>
          <p:cNvSpPr/>
          <p:nvPr/>
        </p:nvSpPr>
        <p:spPr>
          <a:xfrm>
            <a:off x="357120" y="5149800"/>
            <a:ext cx="857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Окситоци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синтезируется в гипоталамусе. Существует гипотеза, что окситоцин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ызывает чувство вер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6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Рисунок 4" descr="муж и жен начало 3.jpeg"/>
          <p:cNvPicPr/>
          <p:nvPr/>
        </p:nvPicPr>
        <p:blipFill>
          <a:blip r:embed="rId2"/>
          <a:stretch/>
        </p:blipFill>
        <p:spPr>
          <a:xfrm>
            <a:off x="2214720" y="800280"/>
            <a:ext cx="4635360" cy="22716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 txBox="1"/>
          <p:nvPr/>
        </p:nvSpPr>
        <p:spPr>
          <a:xfrm>
            <a:off x="6572160" y="2714760"/>
            <a:ext cx="257184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9" name="TextBox 9"/>
          <p:cNvSpPr/>
          <p:nvPr/>
        </p:nvSpPr>
        <p:spPr>
          <a:xfrm>
            <a:off x="6858000" y="2954160"/>
            <a:ext cx="2428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ланг – илан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змар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ро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ергам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типгрей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асм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льмаро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10"/>
          <p:cNvSpPr/>
          <p:nvPr/>
        </p:nvSpPr>
        <p:spPr>
          <a:xfrm>
            <a:off x="428760" y="3000240"/>
            <a:ext cx="221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ед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ачу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анд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риц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Муск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мбир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ос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Ветив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11"/>
          <p:cNvSpPr/>
          <p:nvPr/>
        </p:nvSpPr>
        <p:spPr>
          <a:xfrm>
            <a:off x="3500280" y="3668760"/>
            <a:ext cx="27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рейпфру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аван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айное дере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лис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я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иал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12"/>
          <p:cNvSpPr/>
          <p:nvPr/>
        </p:nvSpPr>
        <p:spPr>
          <a:xfrm>
            <a:off x="428760" y="1546200"/>
            <a:ext cx="142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7215120" y="1546200"/>
            <a:ext cx="14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не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14"/>
          <p:cNvSpPr/>
          <p:nvPr/>
        </p:nvSpPr>
        <p:spPr>
          <a:xfrm>
            <a:off x="2071800" y="30481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него и для не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18"/>
          <p:cNvSpPr/>
          <p:nvPr/>
        </p:nvSpPr>
        <p:spPr>
          <a:xfrm>
            <a:off x="500040" y="13032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фродизиаки – ароматы любв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11"/>
          <p:cNvSpPr/>
          <p:nvPr/>
        </p:nvSpPr>
        <p:spPr>
          <a:xfrm>
            <a:off x="857160" y="628668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позиция любв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86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94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4"/>
          <p:cNvSpPr/>
          <p:nvPr/>
        </p:nvSpPr>
        <p:spPr>
          <a:xfrm>
            <a:off x="1187280" y="2858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«Шесть шляп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1187280" y="10000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(Эдвард де Боно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11" descr="Жёлтая шляпа"/>
          <p:cNvPicPr/>
          <p:nvPr/>
        </p:nvPicPr>
        <p:blipFill>
          <a:blip r:embed="rId2"/>
          <a:stretch/>
        </p:blipFill>
        <p:spPr>
          <a:xfrm>
            <a:off x="1071720" y="4187880"/>
            <a:ext cx="3119400" cy="188424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12"/>
          <p:cNvSpPr/>
          <p:nvPr/>
        </p:nvSpPr>
        <p:spPr>
          <a:xfrm>
            <a:off x="5075280" y="3860640"/>
            <a:ext cx="36399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Arial"/>
              </a:rPr>
              <a:t>Жёлтая шляпа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олнечный, жизнеутверждающий цвет. Она полна оптимизма, под ней живёт надежда и позитивное мышл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1" name="Conjure_Moon.mp3" descr=""/>
          <p:cNvPicPr/>
          <p:nvPr/>
        </p:nvPicPr>
        <p:blipFill>
          <a:blip r:embed="rId3"/>
          <a:stretch/>
        </p:blipFill>
        <p:spPr>
          <a:xfrm>
            <a:off x="214200" y="6286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9" descr="Красная шляпа"/>
          <p:cNvPicPr/>
          <p:nvPr/>
        </p:nvPicPr>
        <p:blipFill>
          <a:blip r:embed="rId4"/>
          <a:stretch/>
        </p:blipFill>
        <p:spPr>
          <a:xfrm>
            <a:off x="5167440" y="1714680"/>
            <a:ext cx="3119400" cy="188424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7"/>
          <p:cNvSpPr/>
          <p:nvPr/>
        </p:nvSpPr>
        <p:spPr>
          <a:xfrm>
            <a:off x="857160" y="1785960"/>
            <a:ext cx="3384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0b05"/>
                </a:solidFill>
                <a:latin typeface="Verdana"/>
                <a:ea typeface="Arial"/>
              </a:rPr>
              <a:t>Красная шляпа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имвол восприятия действительности на уровне чувств. В ней можно отдать себя во власть эмоц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3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31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3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6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6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1222200" y="2779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«Шесть шляп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1187280" y="8571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(Эдвард де Боно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428760" y="164304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Чёрная шляп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 – чёрный цвет мрачный, зловещий, словом – недобрый. Это критика, доходящая до въедлив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7" name="Picture 8" descr="Чёрная шляпа"/>
          <p:cNvPicPr/>
          <p:nvPr/>
        </p:nvPicPr>
        <p:blipFill>
          <a:blip r:embed="rId2"/>
          <a:stretch/>
        </p:blipFill>
        <p:spPr>
          <a:xfrm>
            <a:off x="4809960" y="1714680"/>
            <a:ext cx="3119760" cy="18842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Зелёная шляпа"/>
          <p:cNvPicPr/>
          <p:nvPr/>
        </p:nvPicPr>
        <p:blipFill>
          <a:blip r:embed="rId3"/>
          <a:stretch/>
        </p:blipFill>
        <p:spPr>
          <a:xfrm>
            <a:off x="785880" y="4143240"/>
            <a:ext cx="3119400" cy="18860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9"/>
          <p:cNvSpPr/>
          <p:nvPr/>
        </p:nvSpPr>
        <p:spPr>
          <a:xfrm>
            <a:off x="4714920" y="407196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  <a:ea typeface="Arial"/>
              </a:rPr>
              <a:t>Зелёная шляпа</a:t>
            </a:r>
            <a:r>
              <a:rPr b="1" lang="ru-RU" sz="1800" spc="-1" strike="noStrike">
                <a:solidFill>
                  <a:srgbClr val="006600"/>
                </a:solidFill>
                <a:latin typeface="Verdana"/>
                <a:ea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имвол свежей листвы, изобилия и плодородия. Она символизирует творческое начало и рассвет новых ид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55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5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65" nodeType="afterEffect" fill="hold" presetClass="entr" presetID="3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6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6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187280" y="3571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«Шесть шляп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1187280" y="10000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(Эдвард де Боно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4973760" y="425304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Белая шляпа</a:t>
            </a:r>
            <a:r>
              <a:rPr b="1" lang="ru-RU" sz="18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ru-RU" sz="1800" spc="-1" strike="noStrike">
                <a:solidFill>
                  <a:srgbClr val="e1e1e1"/>
                </a:solidFill>
                <a:latin typeface="Verdana"/>
                <a:ea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белый цвет беспристрастен и объективен. В ней «варятся» мысли, «замешанные» на цифрах и факт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3" name="Picture 11" descr="Белая шляпа"/>
          <p:cNvPicPr/>
          <p:nvPr/>
        </p:nvPicPr>
        <p:blipFill>
          <a:blip r:embed="rId1"/>
          <a:stretch/>
        </p:blipFill>
        <p:spPr>
          <a:xfrm>
            <a:off x="785880" y="4429080"/>
            <a:ext cx="3119400" cy="18842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9" descr="Синяя шляпа"/>
          <p:cNvPicPr/>
          <p:nvPr/>
        </p:nvPicPr>
        <p:blipFill>
          <a:blip r:embed="rId2"/>
          <a:stretch/>
        </p:blipFill>
        <p:spPr>
          <a:xfrm>
            <a:off x="5238720" y="1500120"/>
            <a:ext cx="3119400" cy="18846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7"/>
          <p:cNvSpPr/>
          <p:nvPr/>
        </p:nvSpPr>
        <p:spPr>
          <a:xfrm>
            <a:off x="571680" y="164304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  <a:ea typeface="Arial"/>
              </a:rPr>
              <a:t>Синяя шляпа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иний цвет холодный, это цвет неба. Она связана с организацией, обобщением того, что достигнут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Рисунок 3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547" name="TextBox 2" descr=""/>
          <p:cNvPicPr/>
          <p:nvPr/>
        </p:nvPicPr>
        <p:blipFill>
          <a:blip r:embed="rId2"/>
          <a:stretch/>
        </p:blipFill>
        <p:spPr>
          <a:xfrm>
            <a:off x="781200" y="5924520"/>
            <a:ext cx="7581600" cy="652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09800" y="676080"/>
            <a:ext cx="7124400" cy="23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Химия  любви, </a:t>
            </a:r>
            <a:br>
              <a:rPr sz="4800"/>
            </a:b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любовь  к  химии.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7" name="Прямоугольник 17"/>
          <p:cNvSpPr/>
          <p:nvPr/>
        </p:nvSpPr>
        <p:spPr>
          <a:xfrm>
            <a:off x="571680" y="400068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асть 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  как    хим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асть 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 как   палит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асть 3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 как   притяж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Рисунок 18" descr="khimicheskij_opyt_jpg.gif"/>
          <p:cNvPicPr/>
          <p:nvPr/>
        </p:nvPicPr>
        <p:blipFill>
          <a:blip r:embed="rId2"/>
          <a:stretch/>
        </p:blipFill>
        <p:spPr>
          <a:xfrm>
            <a:off x="4233960" y="3571920"/>
            <a:ext cx="2124000" cy="154296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21" descr="Аромат 5.jpeg"/>
          <p:cNvPicPr/>
          <p:nvPr/>
        </p:nvPicPr>
        <p:blipFill>
          <a:blip r:embed="rId3"/>
          <a:stretch/>
        </p:blipFill>
        <p:spPr>
          <a:xfrm>
            <a:off x="4714920" y="5411880"/>
            <a:ext cx="1857240" cy="116028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22" descr="Аромат 7.jpeg"/>
          <p:cNvPicPr/>
          <p:nvPr/>
        </p:nvPicPr>
        <p:blipFill>
          <a:blip r:embed="rId4"/>
          <a:stretch/>
        </p:blipFill>
        <p:spPr>
          <a:xfrm>
            <a:off x="7215120" y="5394240"/>
            <a:ext cx="1681200" cy="117792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23" descr="Палитра надо.jpeg"/>
          <p:cNvPicPr/>
          <p:nvPr/>
        </p:nvPicPr>
        <p:blipFill>
          <a:blip r:embed="rId5"/>
          <a:stretch/>
        </p:blipFill>
        <p:spPr>
          <a:xfrm>
            <a:off x="6572160" y="3857760"/>
            <a:ext cx="1643040" cy="1231920"/>
          </a:xfrm>
          <a:prstGeom prst="rect">
            <a:avLst/>
          </a:prstGeom>
          <a:ln w="0">
            <a:noFill/>
          </a:ln>
        </p:spPr>
      </p:pic>
      <p:sp>
        <p:nvSpPr>
          <p:cNvPr id="332" name="TextBox 25"/>
          <p:cNvSpPr/>
          <p:nvPr/>
        </p:nvSpPr>
        <p:spPr>
          <a:xfrm>
            <a:off x="142920" y="31813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ль: Взглянуть на предмет другими глазами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4"/>
          <p:cNvSpPr/>
          <p:nvPr/>
        </p:nvSpPr>
        <p:spPr>
          <a:xfrm>
            <a:off x="1071720" y="3000240"/>
            <a:ext cx="66434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адия   влюблен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NaOH + HCl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 NaCl + 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Georgia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857160" y="21420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как  хим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Схема 6" descr=""/>
          <p:cNvPicPr/>
          <p:nvPr/>
        </p:nvPicPr>
        <p:blipFill>
          <a:blip r:embed="rId2"/>
          <a:stretch/>
        </p:blipFill>
        <p:spPr>
          <a:xfrm>
            <a:off x="347760" y="858960"/>
            <a:ext cx="8588160" cy="2139840"/>
          </a:xfrm>
          <a:prstGeom prst="rect">
            <a:avLst/>
          </a:prstGeom>
          <a:ln w="0">
            <a:noFill/>
          </a:ln>
        </p:spPr>
      </p:pic>
      <p:sp>
        <p:nvSpPr>
          <p:cNvPr id="336" name="Цилиндр 7"/>
          <p:cNvSpPr/>
          <p:nvPr/>
        </p:nvSpPr>
        <p:spPr>
          <a:xfrm>
            <a:off x="1000080" y="5500800"/>
            <a:ext cx="571680" cy="1071360"/>
          </a:xfrm>
          <a:prstGeom prst="can">
            <a:avLst>
              <a:gd name="adj" fmla="val 13333"/>
            </a:avLst>
          </a:prstGeom>
          <a:solidFill>
            <a:srgbClr val="d9d9d9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Цилиндр 8"/>
          <p:cNvSpPr/>
          <p:nvPr/>
        </p:nvSpPr>
        <p:spPr>
          <a:xfrm>
            <a:off x="7572240" y="428616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Цилиндр 10"/>
          <p:cNvSpPr/>
          <p:nvPr/>
        </p:nvSpPr>
        <p:spPr>
          <a:xfrm>
            <a:off x="7572240" y="5572080"/>
            <a:ext cx="571680" cy="1071720"/>
          </a:xfrm>
          <a:prstGeom prst="can">
            <a:avLst>
              <a:gd name="adj" fmla="val 13333"/>
            </a:avLst>
          </a:prstGeom>
          <a:solidFill>
            <a:srgbClr val="d9d9d9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Стрелка углом 11"/>
          <p:cNvSpPr/>
          <p:nvPr/>
        </p:nvSpPr>
        <p:spPr>
          <a:xfrm rot="5400000">
            <a:off x="642600" y="3500280"/>
            <a:ext cx="500040" cy="1071720"/>
          </a:xfrm>
          <a:custGeom>
            <a:avLst/>
            <a:gdLst/>
            <a:ahLst/>
            <a:rect l="l" t="t" r="r" b="b"/>
            <a:pathLst>
              <a:path w="500062" h="1071562">
                <a:moveTo>
                  <a:pt x="0" y="10715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367076" y="62508"/>
                </a:lnTo>
                <a:lnTo>
                  <a:pt x="367076" y="0"/>
                </a:lnTo>
                <a:lnTo>
                  <a:pt x="500062" y="125016"/>
                </a:lnTo>
                <a:lnTo>
                  <a:pt x="367076" y="250031"/>
                </a:lnTo>
                <a:lnTo>
                  <a:pt x="367076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544711"/>
                  <a:pt x="125016" y="808136"/>
                  <a:pt x="125016" y="1071562"/>
                </a:cubicBezTo>
                <a:lnTo>
                  <a:pt x="0" y="1071562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Стрелка вправо 12"/>
          <p:cNvSpPr/>
          <p:nvPr/>
        </p:nvSpPr>
        <p:spPr>
          <a:xfrm>
            <a:off x="4214880" y="5000760"/>
            <a:ext cx="2071800" cy="285480"/>
          </a:xfrm>
          <a:prstGeom prst="rightArrow">
            <a:avLst>
              <a:gd name="adj1" fmla="val 50000"/>
              <a:gd name="adj2" fmla="val 50062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Цилиндр 13"/>
          <p:cNvSpPr/>
          <p:nvPr/>
        </p:nvSpPr>
        <p:spPr>
          <a:xfrm>
            <a:off x="2857680" y="4357800"/>
            <a:ext cx="571320" cy="1357200"/>
          </a:xfrm>
          <a:prstGeom prst="can">
            <a:avLst>
              <a:gd name="adj" fmla="val 1052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Цилиндр 14"/>
          <p:cNvSpPr/>
          <p:nvPr/>
        </p:nvSpPr>
        <p:spPr>
          <a:xfrm>
            <a:off x="2857680" y="5572080"/>
            <a:ext cx="571320" cy="1071720"/>
          </a:xfrm>
          <a:prstGeom prst="can">
            <a:avLst>
              <a:gd name="adj" fmla="val 13333"/>
            </a:avLst>
          </a:prstGeom>
          <a:solidFill>
            <a:srgbClr val="b0105c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Цилиндр 15"/>
          <p:cNvSpPr/>
          <p:nvPr/>
        </p:nvSpPr>
        <p:spPr>
          <a:xfrm>
            <a:off x="1000080" y="4286160"/>
            <a:ext cx="571680" cy="1357560"/>
          </a:xfrm>
          <a:prstGeom prst="can">
            <a:avLst>
              <a:gd name="adj" fmla="val 1052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Box 17"/>
          <p:cNvSpPr/>
          <p:nvPr/>
        </p:nvSpPr>
        <p:spPr>
          <a:xfrm>
            <a:off x="0" y="59292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Box 18"/>
          <p:cNvSpPr/>
          <p:nvPr/>
        </p:nvSpPr>
        <p:spPr>
          <a:xfrm>
            <a:off x="0" y="334476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фенолфтале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Стрелка вправо 19"/>
          <p:cNvSpPr/>
          <p:nvPr/>
        </p:nvSpPr>
        <p:spPr>
          <a:xfrm>
            <a:off x="1785960" y="5000760"/>
            <a:ext cx="938160" cy="2854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Стрелка углом вверх 20"/>
          <p:cNvSpPr/>
          <p:nvPr/>
        </p:nvSpPr>
        <p:spPr>
          <a:xfrm rot="10800000">
            <a:off x="7715160" y="3929040"/>
            <a:ext cx="1000080" cy="571680"/>
          </a:xfrm>
          <a:custGeom>
            <a:avLst/>
            <a:gdLst/>
            <a:ahLst/>
            <a:rect l="l" t="t" r="r" b="b"/>
            <a:pathLst>
              <a:path w="1000125" h="571500">
                <a:moveTo>
                  <a:pt x="0" y="428625"/>
                </a:moveTo>
                <a:lnTo>
                  <a:pt x="785813" y="428625"/>
                </a:lnTo>
                <a:lnTo>
                  <a:pt x="785813" y="142875"/>
                </a:lnTo>
                <a:lnTo>
                  <a:pt x="714375" y="142875"/>
                </a:lnTo>
                <a:lnTo>
                  <a:pt x="857250" y="0"/>
                </a:lnTo>
                <a:lnTo>
                  <a:pt x="1000125" y="142875"/>
                </a:lnTo>
                <a:lnTo>
                  <a:pt x="928688" y="142875"/>
                </a:lnTo>
                <a:lnTo>
                  <a:pt x="928688" y="571500"/>
                </a:lnTo>
                <a:lnTo>
                  <a:pt x="0" y="571500"/>
                </a:lnTo>
                <a:lnTo>
                  <a:pt x="0" y="428625"/>
                </a:lnTo>
                <a:close/>
              </a:path>
            </a:pathLst>
          </a:custGeom>
          <a:solidFill>
            <a:srgbClr val="000000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Box 21"/>
          <p:cNvSpPr/>
          <p:nvPr/>
        </p:nvSpPr>
        <p:spPr>
          <a:xfrm>
            <a:off x="8001000" y="33336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HC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4"/>
          <p:cNvSpPr/>
          <p:nvPr/>
        </p:nvSpPr>
        <p:spPr>
          <a:xfrm>
            <a:off x="1071720" y="3000240"/>
            <a:ext cx="6643440" cy="12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адия   страстной любв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Mg + 2 HCl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Mg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Box 5"/>
          <p:cNvSpPr/>
          <p:nvPr/>
        </p:nvSpPr>
        <p:spPr>
          <a:xfrm>
            <a:off x="857160" y="21420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как  хим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Схема 6" descr=""/>
          <p:cNvPicPr/>
          <p:nvPr/>
        </p:nvPicPr>
        <p:blipFill>
          <a:blip r:embed="rId2"/>
          <a:stretch/>
        </p:blipFill>
        <p:spPr>
          <a:xfrm>
            <a:off x="360360" y="755640"/>
            <a:ext cx="8570880" cy="2487600"/>
          </a:xfrm>
          <a:prstGeom prst="rect">
            <a:avLst/>
          </a:prstGeom>
          <a:ln w="0">
            <a:noFill/>
          </a:ln>
        </p:spPr>
      </p:pic>
      <p:sp>
        <p:nvSpPr>
          <p:cNvPr id="352" name="Цилиндр 7"/>
          <p:cNvSpPr/>
          <p:nvPr/>
        </p:nvSpPr>
        <p:spPr>
          <a:xfrm>
            <a:off x="1000080" y="5500800"/>
            <a:ext cx="571680" cy="1071360"/>
          </a:xfrm>
          <a:prstGeom prst="can">
            <a:avLst>
              <a:gd name="adj" fmla="val 13333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Цилиндр 8"/>
          <p:cNvSpPr/>
          <p:nvPr/>
        </p:nvSpPr>
        <p:spPr>
          <a:xfrm>
            <a:off x="7572240" y="428616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Цилиндр 10"/>
          <p:cNvSpPr/>
          <p:nvPr/>
        </p:nvSpPr>
        <p:spPr>
          <a:xfrm>
            <a:off x="7572240" y="5572080"/>
            <a:ext cx="571680" cy="1071720"/>
          </a:xfrm>
          <a:prstGeom prst="can">
            <a:avLst>
              <a:gd name="adj" fmla="val 13333"/>
            </a:avLst>
          </a:prstGeom>
          <a:solidFill>
            <a:srgbClr val="d9d9d9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Стрелка углом 11"/>
          <p:cNvSpPr/>
          <p:nvPr/>
        </p:nvSpPr>
        <p:spPr>
          <a:xfrm rot="5400000">
            <a:off x="642600" y="3500280"/>
            <a:ext cx="500040" cy="1071720"/>
          </a:xfrm>
          <a:custGeom>
            <a:avLst/>
            <a:gdLst/>
            <a:ahLst/>
            <a:rect l="l" t="t" r="r" b="b"/>
            <a:pathLst>
              <a:path w="500062" h="1071562">
                <a:moveTo>
                  <a:pt x="0" y="10715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367076" y="62508"/>
                </a:lnTo>
                <a:lnTo>
                  <a:pt x="367076" y="0"/>
                </a:lnTo>
                <a:lnTo>
                  <a:pt x="500062" y="125016"/>
                </a:lnTo>
                <a:lnTo>
                  <a:pt x="367076" y="250031"/>
                </a:lnTo>
                <a:lnTo>
                  <a:pt x="367076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544711"/>
                  <a:pt x="125016" y="808136"/>
                  <a:pt x="125016" y="1071562"/>
                </a:cubicBezTo>
                <a:lnTo>
                  <a:pt x="0" y="1071562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Стрелка вправо 12"/>
          <p:cNvSpPr/>
          <p:nvPr/>
        </p:nvSpPr>
        <p:spPr>
          <a:xfrm>
            <a:off x="3500280" y="5286240"/>
            <a:ext cx="2071800" cy="28584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Цилиндр 15"/>
          <p:cNvSpPr/>
          <p:nvPr/>
        </p:nvSpPr>
        <p:spPr>
          <a:xfrm>
            <a:off x="1000080" y="4286160"/>
            <a:ext cx="571680" cy="1357560"/>
          </a:xfrm>
          <a:prstGeom prst="can">
            <a:avLst>
              <a:gd name="adj" fmla="val 1052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Box 17"/>
          <p:cNvSpPr/>
          <p:nvPr/>
        </p:nvSpPr>
        <p:spPr>
          <a:xfrm>
            <a:off x="214200" y="59292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Box 18"/>
          <p:cNvSpPr/>
          <p:nvPr/>
        </p:nvSpPr>
        <p:spPr>
          <a:xfrm>
            <a:off x="0" y="320184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Полилиния 22"/>
          <p:cNvSpPr/>
          <p:nvPr/>
        </p:nvSpPr>
        <p:spPr>
          <a:xfrm>
            <a:off x="1060560" y="5711760"/>
            <a:ext cx="501480" cy="844560"/>
          </a:xfrm>
          <a:custGeom>
            <a:avLst/>
            <a:gdLst/>
            <a:ahLst/>
            <a:rect l="l" t="t" r="r" b="b"/>
            <a:pathLst>
              <a:path w="502081" h="844322">
                <a:moveTo>
                  <a:pt x="121664" y="0"/>
                </a:moveTo>
                <a:cubicBezTo>
                  <a:pt x="107596" y="4689"/>
                  <a:pt x="89946" y="3583"/>
                  <a:pt x="79461" y="14068"/>
                </a:cubicBezTo>
                <a:cubicBezTo>
                  <a:pt x="68976" y="24553"/>
                  <a:pt x="72025" y="43008"/>
                  <a:pt x="65393" y="56271"/>
                </a:cubicBezTo>
                <a:cubicBezTo>
                  <a:pt x="57832" y="71393"/>
                  <a:pt x="46636" y="84406"/>
                  <a:pt x="37258" y="98474"/>
                </a:cubicBezTo>
                <a:cubicBezTo>
                  <a:pt x="51326" y="140677"/>
                  <a:pt x="53950" y="188639"/>
                  <a:pt x="79461" y="225083"/>
                </a:cubicBezTo>
                <a:cubicBezTo>
                  <a:pt x="90548" y="240922"/>
                  <a:pt x="117142" y="233839"/>
                  <a:pt x="135732" y="239151"/>
                </a:cubicBezTo>
                <a:cubicBezTo>
                  <a:pt x="276964" y="279504"/>
                  <a:pt x="58346" y="223323"/>
                  <a:pt x="234206" y="267286"/>
                </a:cubicBezTo>
                <a:cubicBezTo>
                  <a:pt x="290477" y="257908"/>
                  <a:pt x="349295" y="258338"/>
                  <a:pt x="403018" y="239151"/>
                </a:cubicBezTo>
                <a:cubicBezTo>
                  <a:pt x="418940" y="233465"/>
                  <a:pt x="429471" y="213771"/>
                  <a:pt x="431153" y="196948"/>
                </a:cubicBezTo>
                <a:cubicBezTo>
                  <a:pt x="434452" y="163955"/>
                  <a:pt x="423589" y="130988"/>
                  <a:pt x="417086" y="98474"/>
                </a:cubicBezTo>
                <a:cubicBezTo>
                  <a:pt x="411051" y="68298"/>
                  <a:pt x="402567" y="44745"/>
                  <a:pt x="374883" y="28135"/>
                </a:cubicBezTo>
                <a:cubicBezTo>
                  <a:pt x="362168" y="20506"/>
                  <a:pt x="346748" y="18757"/>
                  <a:pt x="332680" y="14068"/>
                </a:cubicBezTo>
                <a:cubicBezTo>
                  <a:pt x="267031" y="23446"/>
                  <a:pt x="200068" y="26119"/>
                  <a:pt x="135732" y="42203"/>
                </a:cubicBezTo>
                <a:cubicBezTo>
                  <a:pt x="122865" y="45420"/>
                  <a:pt x="117953" y="62053"/>
                  <a:pt x="107596" y="70339"/>
                </a:cubicBezTo>
                <a:cubicBezTo>
                  <a:pt x="94394" y="80901"/>
                  <a:pt x="79461" y="89096"/>
                  <a:pt x="65393" y="98474"/>
                </a:cubicBezTo>
                <a:cubicBezTo>
                  <a:pt x="56015" y="117231"/>
                  <a:pt x="38255" y="133798"/>
                  <a:pt x="37258" y="154745"/>
                </a:cubicBezTo>
                <a:cubicBezTo>
                  <a:pt x="31866" y="267984"/>
                  <a:pt x="0" y="373746"/>
                  <a:pt x="93529" y="436099"/>
                </a:cubicBezTo>
                <a:cubicBezTo>
                  <a:pt x="105867" y="444324"/>
                  <a:pt x="121664" y="445477"/>
                  <a:pt x="135732" y="450166"/>
                </a:cubicBezTo>
                <a:cubicBezTo>
                  <a:pt x="252963" y="445477"/>
                  <a:pt x="371464" y="453939"/>
                  <a:pt x="487424" y="436099"/>
                </a:cubicBezTo>
                <a:cubicBezTo>
                  <a:pt x="502081" y="433844"/>
                  <a:pt x="501492" y="408724"/>
                  <a:pt x="501492" y="393895"/>
                </a:cubicBezTo>
                <a:cubicBezTo>
                  <a:pt x="501492" y="356089"/>
                  <a:pt x="499379" y="317220"/>
                  <a:pt x="487424" y="281354"/>
                </a:cubicBezTo>
                <a:cubicBezTo>
                  <a:pt x="480010" y="259111"/>
                  <a:pt x="462745" y="240660"/>
                  <a:pt x="445221" y="225083"/>
                </a:cubicBezTo>
                <a:cubicBezTo>
                  <a:pt x="419948" y="202618"/>
                  <a:pt x="388950" y="187569"/>
                  <a:pt x="360815" y="168812"/>
                </a:cubicBezTo>
                <a:cubicBezTo>
                  <a:pt x="297603" y="126670"/>
                  <a:pt x="334307" y="146955"/>
                  <a:pt x="248273" y="112542"/>
                </a:cubicBezTo>
                <a:cubicBezTo>
                  <a:pt x="224827" y="117231"/>
                  <a:pt x="198438" y="114307"/>
                  <a:pt x="177935" y="126609"/>
                </a:cubicBezTo>
                <a:cubicBezTo>
                  <a:pt x="149502" y="143669"/>
                  <a:pt x="107596" y="196948"/>
                  <a:pt x="107596" y="196948"/>
                </a:cubicBezTo>
                <a:cubicBezTo>
                  <a:pt x="102907" y="215705"/>
                  <a:pt x="102176" y="235926"/>
                  <a:pt x="93529" y="253219"/>
                </a:cubicBezTo>
                <a:cubicBezTo>
                  <a:pt x="87598" y="265082"/>
                  <a:pt x="70050" y="268935"/>
                  <a:pt x="65393" y="281354"/>
                </a:cubicBezTo>
                <a:cubicBezTo>
                  <a:pt x="55378" y="308061"/>
                  <a:pt x="56015" y="337625"/>
                  <a:pt x="51326" y="365760"/>
                </a:cubicBezTo>
                <a:cubicBezTo>
                  <a:pt x="56015" y="426720"/>
                  <a:pt x="58993" y="487836"/>
                  <a:pt x="65393" y="548640"/>
                </a:cubicBezTo>
                <a:cubicBezTo>
                  <a:pt x="68379" y="577007"/>
                  <a:pt x="60898" y="611389"/>
                  <a:pt x="79461" y="633046"/>
                </a:cubicBezTo>
                <a:cubicBezTo>
                  <a:pt x="95022" y="651200"/>
                  <a:pt x="126354" y="642425"/>
                  <a:pt x="149800" y="647114"/>
                </a:cubicBezTo>
                <a:cubicBezTo>
                  <a:pt x="248274" y="642425"/>
                  <a:pt x="362563" y="686774"/>
                  <a:pt x="445221" y="633046"/>
                </a:cubicBezTo>
                <a:cubicBezTo>
                  <a:pt x="492564" y="602273"/>
                  <a:pt x="442227" y="519603"/>
                  <a:pt x="431153" y="464234"/>
                </a:cubicBezTo>
                <a:cubicBezTo>
                  <a:pt x="427837" y="447655"/>
                  <a:pt x="413580" y="435233"/>
                  <a:pt x="403018" y="422031"/>
                </a:cubicBezTo>
                <a:cubicBezTo>
                  <a:pt x="384993" y="399499"/>
                  <a:pt x="338314" y="362638"/>
                  <a:pt x="318612" y="351692"/>
                </a:cubicBezTo>
                <a:cubicBezTo>
                  <a:pt x="296537" y="339428"/>
                  <a:pt x="271719" y="332935"/>
                  <a:pt x="248273" y="323557"/>
                </a:cubicBezTo>
                <a:cubicBezTo>
                  <a:pt x="229516" y="328246"/>
                  <a:pt x="208790" y="328033"/>
                  <a:pt x="192003" y="337625"/>
                </a:cubicBezTo>
                <a:cubicBezTo>
                  <a:pt x="174730" y="347496"/>
                  <a:pt x="165084" y="367092"/>
                  <a:pt x="149800" y="379828"/>
                </a:cubicBezTo>
                <a:cubicBezTo>
                  <a:pt x="136811" y="390652"/>
                  <a:pt x="121664" y="398585"/>
                  <a:pt x="107596" y="407963"/>
                </a:cubicBezTo>
                <a:cubicBezTo>
                  <a:pt x="74115" y="508409"/>
                  <a:pt x="95912" y="467693"/>
                  <a:pt x="51326" y="534572"/>
                </a:cubicBezTo>
                <a:cubicBezTo>
                  <a:pt x="56015" y="614289"/>
                  <a:pt x="37787" y="698792"/>
                  <a:pt x="65393" y="773723"/>
                </a:cubicBezTo>
                <a:cubicBezTo>
                  <a:pt x="75646" y="801552"/>
                  <a:pt x="120290" y="798908"/>
                  <a:pt x="149800" y="801859"/>
                </a:cubicBezTo>
                <a:lnTo>
                  <a:pt x="290476" y="815926"/>
                </a:lnTo>
                <a:cubicBezTo>
                  <a:pt x="431068" y="800306"/>
                  <a:pt x="417086" y="844322"/>
                  <a:pt x="417086" y="759655"/>
                </a:cubicBez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Выноска-облако 23" descr=""/>
          <p:cNvPicPr/>
          <p:nvPr/>
        </p:nvPicPr>
        <p:blipFill>
          <a:blip r:embed="rId3"/>
          <a:stretch/>
        </p:blipFill>
        <p:spPr>
          <a:xfrm>
            <a:off x="7418520" y="3206880"/>
            <a:ext cx="1457280" cy="122544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25"/>
          <p:cNvSpPr/>
          <p:nvPr/>
        </p:nvSpPr>
        <p:spPr>
          <a:xfrm>
            <a:off x="6066000" y="6072120"/>
            <a:ext cx="15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+ Q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4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4"/>
          <p:cNvSpPr/>
          <p:nvPr/>
        </p:nvSpPr>
        <p:spPr>
          <a:xfrm>
            <a:off x="1071720" y="3000240"/>
            <a:ext cx="6643440" cy="12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адия   зрелой любв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Zn + 2 HCl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Zn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857160" y="21420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как  хим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Схема 6" descr=""/>
          <p:cNvPicPr/>
          <p:nvPr/>
        </p:nvPicPr>
        <p:blipFill>
          <a:blip r:embed="rId2"/>
          <a:stretch/>
        </p:blipFill>
        <p:spPr>
          <a:xfrm>
            <a:off x="347760" y="858960"/>
            <a:ext cx="8588160" cy="2139840"/>
          </a:xfrm>
          <a:prstGeom prst="rect">
            <a:avLst/>
          </a:prstGeom>
          <a:ln w="0">
            <a:noFill/>
          </a:ln>
        </p:spPr>
      </p:pic>
      <p:sp>
        <p:nvSpPr>
          <p:cNvPr id="366" name="Цилиндр 7"/>
          <p:cNvSpPr/>
          <p:nvPr/>
        </p:nvSpPr>
        <p:spPr>
          <a:xfrm>
            <a:off x="1000080" y="5500800"/>
            <a:ext cx="571680" cy="1071360"/>
          </a:xfrm>
          <a:prstGeom prst="can">
            <a:avLst>
              <a:gd name="adj" fmla="val 13333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Цилиндр 8"/>
          <p:cNvSpPr/>
          <p:nvPr/>
        </p:nvSpPr>
        <p:spPr>
          <a:xfrm>
            <a:off x="7572240" y="428616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Цилиндр 10"/>
          <p:cNvSpPr/>
          <p:nvPr/>
        </p:nvSpPr>
        <p:spPr>
          <a:xfrm>
            <a:off x="7572240" y="5572080"/>
            <a:ext cx="571680" cy="1071720"/>
          </a:xfrm>
          <a:prstGeom prst="can">
            <a:avLst>
              <a:gd name="adj" fmla="val 13333"/>
            </a:avLst>
          </a:prstGeom>
          <a:solidFill>
            <a:srgbClr val="d9d9d9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Стрелка углом 11"/>
          <p:cNvSpPr/>
          <p:nvPr/>
        </p:nvSpPr>
        <p:spPr>
          <a:xfrm rot="5400000">
            <a:off x="642600" y="3500280"/>
            <a:ext cx="500040" cy="1071720"/>
          </a:xfrm>
          <a:custGeom>
            <a:avLst/>
            <a:gdLst/>
            <a:ahLst/>
            <a:rect l="l" t="t" r="r" b="b"/>
            <a:pathLst>
              <a:path w="500062" h="1071562">
                <a:moveTo>
                  <a:pt x="0" y="10715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367076" y="62508"/>
                </a:lnTo>
                <a:lnTo>
                  <a:pt x="367076" y="0"/>
                </a:lnTo>
                <a:lnTo>
                  <a:pt x="500062" y="125016"/>
                </a:lnTo>
                <a:lnTo>
                  <a:pt x="367076" y="250031"/>
                </a:lnTo>
                <a:lnTo>
                  <a:pt x="367076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544711"/>
                  <a:pt x="125016" y="808136"/>
                  <a:pt x="125016" y="1071562"/>
                </a:cubicBezTo>
                <a:lnTo>
                  <a:pt x="0" y="1071562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Стрелка вправо 12"/>
          <p:cNvSpPr/>
          <p:nvPr/>
        </p:nvSpPr>
        <p:spPr>
          <a:xfrm>
            <a:off x="3500280" y="5286240"/>
            <a:ext cx="2071800" cy="28584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Цилиндр 15"/>
          <p:cNvSpPr/>
          <p:nvPr/>
        </p:nvSpPr>
        <p:spPr>
          <a:xfrm>
            <a:off x="1000080" y="4286160"/>
            <a:ext cx="571680" cy="1357560"/>
          </a:xfrm>
          <a:prstGeom prst="can">
            <a:avLst>
              <a:gd name="adj" fmla="val 1052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Box 17"/>
          <p:cNvSpPr/>
          <p:nvPr/>
        </p:nvSpPr>
        <p:spPr>
          <a:xfrm>
            <a:off x="214200" y="59292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Box 18"/>
          <p:cNvSpPr/>
          <p:nvPr/>
        </p:nvSpPr>
        <p:spPr>
          <a:xfrm>
            <a:off x="0" y="320184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Полилиния 22"/>
          <p:cNvSpPr/>
          <p:nvPr/>
        </p:nvSpPr>
        <p:spPr>
          <a:xfrm>
            <a:off x="1060560" y="5711760"/>
            <a:ext cx="501480" cy="844560"/>
          </a:xfrm>
          <a:custGeom>
            <a:avLst/>
            <a:gdLst/>
            <a:ahLst/>
            <a:rect l="l" t="t" r="r" b="b"/>
            <a:pathLst>
              <a:path w="502081" h="844322">
                <a:moveTo>
                  <a:pt x="121664" y="0"/>
                </a:moveTo>
                <a:cubicBezTo>
                  <a:pt x="107596" y="4689"/>
                  <a:pt x="89946" y="3583"/>
                  <a:pt x="79461" y="14068"/>
                </a:cubicBezTo>
                <a:cubicBezTo>
                  <a:pt x="68976" y="24553"/>
                  <a:pt x="72025" y="43008"/>
                  <a:pt x="65393" y="56271"/>
                </a:cubicBezTo>
                <a:cubicBezTo>
                  <a:pt x="57832" y="71393"/>
                  <a:pt x="46636" y="84406"/>
                  <a:pt x="37258" y="98474"/>
                </a:cubicBezTo>
                <a:cubicBezTo>
                  <a:pt x="51326" y="140677"/>
                  <a:pt x="53950" y="188639"/>
                  <a:pt x="79461" y="225083"/>
                </a:cubicBezTo>
                <a:cubicBezTo>
                  <a:pt x="90548" y="240922"/>
                  <a:pt x="117142" y="233839"/>
                  <a:pt x="135732" y="239151"/>
                </a:cubicBezTo>
                <a:cubicBezTo>
                  <a:pt x="276964" y="279504"/>
                  <a:pt x="58346" y="223323"/>
                  <a:pt x="234206" y="267286"/>
                </a:cubicBezTo>
                <a:cubicBezTo>
                  <a:pt x="290477" y="257908"/>
                  <a:pt x="349295" y="258338"/>
                  <a:pt x="403018" y="239151"/>
                </a:cubicBezTo>
                <a:cubicBezTo>
                  <a:pt x="418940" y="233465"/>
                  <a:pt x="429471" y="213771"/>
                  <a:pt x="431153" y="196948"/>
                </a:cubicBezTo>
                <a:cubicBezTo>
                  <a:pt x="434452" y="163955"/>
                  <a:pt x="423589" y="130988"/>
                  <a:pt x="417086" y="98474"/>
                </a:cubicBezTo>
                <a:cubicBezTo>
                  <a:pt x="411051" y="68298"/>
                  <a:pt x="402567" y="44745"/>
                  <a:pt x="374883" y="28135"/>
                </a:cubicBezTo>
                <a:cubicBezTo>
                  <a:pt x="362168" y="20506"/>
                  <a:pt x="346748" y="18757"/>
                  <a:pt x="332680" y="14068"/>
                </a:cubicBezTo>
                <a:cubicBezTo>
                  <a:pt x="267031" y="23446"/>
                  <a:pt x="200068" y="26119"/>
                  <a:pt x="135732" y="42203"/>
                </a:cubicBezTo>
                <a:cubicBezTo>
                  <a:pt x="122865" y="45420"/>
                  <a:pt x="117953" y="62053"/>
                  <a:pt x="107596" y="70339"/>
                </a:cubicBezTo>
                <a:cubicBezTo>
                  <a:pt x="94394" y="80901"/>
                  <a:pt x="79461" y="89096"/>
                  <a:pt x="65393" y="98474"/>
                </a:cubicBezTo>
                <a:cubicBezTo>
                  <a:pt x="56015" y="117231"/>
                  <a:pt x="38255" y="133798"/>
                  <a:pt x="37258" y="154745"/>
                </a:cubicBezTo>
                <a:cubicBezTo>
                  <a:pt x="31866" y="267984"/>
                  <a:pt x="0" y="373746"/>
                  <a:pt x="93529" y="436099"/>
                </a:cubicBezTo>
                <a:cubicBezTo>
                  <a:pt x="105867" y="444324"/>
                  <a:pt x="121664" y="445477"/>
                  <a:pt x="135732" y="450166"/>
                </a:cubicBezTo>
                <a:cubicBezTo>
                  <a:pt x="252963" y="445477"/>
                  <a:pt x="371464" y="453939"/>
                  <a:pt x="487424" y="436099"/>
                </a:cubicBezTo>
                <a:cubicBezTo>
                  <a:pt x="502081" y="433844"/>
                  <a:pt x="501492" y="408724"/>
                  <a:pt x="501492" y="393895"/>
                </a:cubicBezTo>
                <a:cubicBezTo>
                  <a:pt x="501492" y="356089"/>
                  <a:pt x="499379" y="317220"/>
                  <a:pt x="487424" y="281354"/>
                </a:cubicBezTo>
                <a:cubicBezTo>
                  <a:pt x="480010" y="259111"/>
                  <a:pt x="462745" y="240660"/>
                  <a:pt x="445221" y="225083"/>
                </a:cubicBezTo>
                <a:cubicBezTo>
                  <a:pt x="419948" y="202618"/>
                  <a:pt x="388950" y="187569"/>
                  <a:pt x="360815" y="168812"/>
                </a:cubicBezTo>
                <a:cubicBezTo>
                  <a:pt x="297603" y="126670"/>
                  <a:pt x="334307" y="146955"/>
                  <a:pt x="248273" y="112542"/>
                </a:cubicBezTo>
                <a:cubicBezTo>
                  <a:pt x="224827" y="117231"/>
                  <a:pt x="198438" y="114307"/>
                  <a:pt x="177935" y="126609"/>
                </a:cubicBezTo>
                <a:cubicBezTo>
                  <a:pt x="149502" y="143669"/>
                  <a:pt x="107596" y="196948"/>
                  <a:pt x="107596" y="196948"/>
                </a:cubicBezTo>
                <a:cubicBezTo>
                  <a:pt x="102907" y="215705"/>
                  <a:pt x="102176" y="235926"/>
                  <a:pt x="93529" y="253219"/>
                </a:cubicBezTo>
                <a:cubicBezTo>
                  <a:pt x="87598" y="265082"/>
                  <a:pt x="70050" y="268935"/>
                  <a:pt x="65393" y="281354"/>
                </a:cubicBezTo>
                <a:cubicBezTo>
                  <a:pt x="55378" y="308061"/>
                  <a:pt x="56015" y="337625"/>
                  <a:pt x="51326" y="365760"/>
                </a:cubicBezTo>
                <a:cubicBezTo>
                  <a:pt x="56015" y="426720"/>
                  <a:pt x="58993" y="487836"/>
                  <a:pt x="65393" y="548640"/>
                </a:cubicBezTo>
                <a:cubicBezTo>
                  <a:pt x="68379" y="577007"/>
                  <a:pt x="60898" y="611389"/>
                  <a:pt x="79461" y="633046"/>
                </a:cubicBezTo>
                <a:cubicBezTo>
                  <a:pt x="95022" y="651200"/>
                  <a:pt x="126354" y="642425"/>
                  <a:pt x="149800" y="647114"/>
                </a:cubicBezTo>
                <a:cubicBezTo>
                  <a:pt x="248274" y="642425"/>
                  <a:pt x="362563" y="686774"/>
                  <a:pt x="445221" y="633046"/>
                </a:cubicBezTo>
                <a:cubicBezTo>
                  <a:pt x="492564" y="602273"/>
                  <a:pt x="442227" y="519603"/>
                  <a:pt x="431153" y="464234"/>
                </a:cubicBezTo>
                <a:cubicBezTo>
                  <a:pt x="427837" y="447655"/>
                  <a:pt x="413580" y="435233"/>
                  <a:pt x="403018" y="422031"/>
                </a:cubicBezTo>
                <a:cubicBezTo>
                  <a:pt x="384993" y="399499"/>
                  <a:pt x="338314" y="362638"/>
                  <a:pt x="318612" y="351692"/>
                </a:cubicBezTo>
                <a:cubicBezTo>
                  <a:pt x="296537" y="339428"/>
                  <a:pt x="271719" y="332935"/>
                  <a:pt x="248273" y="323557"/>
                </a:cubicBezTo>
                <a:cubicBezTo>
                  <a:pt x="229516" y="328246"/>
                  <a:pt x="208790" y="328033"/>
                  <a:pt x="192003" y="337625"/>
                </a:cubicBezTo>
                <a:cubicBezTo>
                  <a:pt x="174730" y="347496"/>
                  <a:pt x="165084" y="367092"/>
                  <a:pt x="149800" y="379828"/>
                </a:cubicBezTo>
                <a:cubicBezTo>
                  <a:pt x="136811" y="390652"/>
                  <a:pt x="121664" y="398585"/>
                  <a:pt x="107596" y="407963"/>
                </a:cubicBezTo>
                <a:cubicBezTo>
                  <a:pt x="74115" y="508409"/>
                  <a:pt x="95912" y="467693"/>
                  <a:pt x="51326" y="534572"/>
                </a:cubicBezTo>
                <a:cubicBezTo>
                  <a:pt x="56015" y="614289"/>
                  <a:pt x="37787" y="698792"/>
                  <a:pt x="65393" y="773723"/>
                </a:cubicBezTo>
                <a:cubicBezTo>
                  <a:pt x="75646" y="801552"/>
                  <a:pt x="120290" y="798908"/>
                  <a:pt x="149800" y="801859"/>
                </a:cubicBezTo>
                <a:lnTo>
                  <a:pt x="290476" y="815926"/>
                </a:lnTo>
                <a:cubicBezTo>
                  <a:pt x="431068" y="800306"/>
                  <a:pt x="417086" y="844322"/>
                  <a:pt x="417086" y="759655"/>
                </a:cubicBez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5" name="Выноска-облако 23" descr=""/>
          <p:cNvPicPr/>
          <p:nvPr/>
        </p:nvPicPr>
        <p:blipFill>
          <a:blip r:embed="rId3"/>
          <a:stretch/>
        </p:blipFill>
        <p:spPr>
          <a:xfrm>
            <a:off x="7418520" y="3206880"/>
            <a:ext cx="1457280" cy="122544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25"/>
          <p:cNvSpPr/>
          <p:nvPr/>
        </p:nvSpPr>
        <p:spPr>
          <a:xfrm>
            <a:off x="6066000" y="6072120"/>
            <a:ext cx="15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+ Q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9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Рисунок 7" descr="Палитра художника 2.jpeg"/>
          <p:cNvPicPr/>
          <p:nvPr/>
        </p:nvPicPr>
        <p:blipFill>
          <a:blip r:embed="rId2"/>
          <a:stretch/>
        </p:blipFill>
        <p:spPr>
          <a:xfrm>
            <a:off x="2889360" y="2139840"/>
            <a:ext cx="3444840" cy="2438640"/>
          </a:xfrm>
          <a:prstGeom prst="rect">
            <a:avLst/>
          </a:prstGeom>
          <a:ln w="0">
            <a:noFill/>
          </a:ln>
        </p:spPr>
      </p:pic>
      <p:grpSp>
        <p:nvGrpSpPr>
          <p:cNvPr id="378" name="Овал 1"/>
          <p:cNvGrpSpPr/>
          <p:nvPr/>
        </p:nvGrpSpPr>
        <p:grpSpPr>
          <a:xfrm>
            <a:off x="4108320" y="822240"/>
            <a:ext cx="1067040" cy="1000080"/>
            <a:chOff x="4108320" y="822240"/>
            <a:chExt cx="1067040" cy="1000080"/>
          </a:xfrm>
        </p:grpSpPr>
        <p:pic>
          <p:nvPicPr>
            <p:cNvPr id="379" name="Овал 1" descr=""/>
            <p:cNvPicPr/>
            <p:nvPr/>
          </p:nvPicPr>
          <p:blipFill>
            <a:blip r:embed="rId3"/>
            <a:stretch/>
          </p:blipFill>
          <p:spPr>
            <a:xfrm>
              <a:off x="4108320" y="82224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4289400" y="99360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1" name="Овал 2"/>
          <p:cNvGrpSpPr/>
          <p:nvPr/>
        </p:nvGrpSpPr>
        <p:grpSpPr>
          <a:xfrm>
            <a:off x="4108320" y="5035680"/>
            <a:ext cx="1067040" cy="1000080"/>
            <a:chOff x="4108320" y="5035680"/>
            <a:chExt cx="1067040" cy="1000080"/>
          </a:xfrm>
        </p:grpSpPr>
        <p:pic>
          <p:nvPicPr>
            <p:cNvPr id="382" name="Овал 2" descr=""/>
            <p:cNvPicPr/>
            <p:nvPr/>
          </p:nvPicPr>
          <p:blipFill>
            <a:blip r:embed="rId4"/>
            <a:stretch/>
          </p:blipFill>
          <p:spPr>
            <a:xfrm>
              <a:off x="4108320" y="503568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4289400" y="5208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4" name="Овал 3"/>
          <p:cNvGrpSpPr/>
          <p:nvPr/>
        </p:nvGrpSpPr>
        <p:grpSpPr>
          <a:xfrm>
            <a:off x="1962000" y="1962000"/>
            <a:ext cx="1073160" cy="1000440"/>
            <a:chOff x="1962000" y="1962000"/>
            <a:chExt cx="1073160" cy="1000440"/>
          </a:xfrm>
        </p:grpSpPr>
        <p:pic>
          <p:nvPicPr>
            <p:cNvPr id="385" name="Овал 3" descr=""/>
            <p:cNvPicPr/>
            <p:nvPr/>
          </p:nvPicPr>
          <p:blipFill>
            <a:blip r:embed="rId5"/>
            <a:stretch/>
          </p:blipFill>
          <p:spPr>
            <a:xfrm>
              <a:off x="1962000" y="1962000"/>
              <a:ext cx="1073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146320" y="213660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7" name="Овал 4"/>
          <p:cNvGrpSpPr/>
          <p:nvPr/>
        </p:nvGrpSpPr>
        <p:grpSpPr>
          <a:xfrm>
            <a:off x="6254640" y="1895400"/>
            <a:ext cx="1067040" cy="993960"/>
            <a:chOff x="6254640" y="1895400"/>
            <a:chExt cx="1067040" cy="993960"/>
          </a:xfrm>
        </p:grpSpPr>
        <p:pic>
          <p:nvPicPr>
            <p:cNvPr id="388" name="Овал 4" descr=""/>
            <p:cNvPicPr/>
            <p:nvPr/>
          </p:nvPicPr>
          <p:blipFill>
            <a:blip r:embed="rId6"/>
            <a:stretch/>
          </p:blipFill>
          <p:spPr>
            <a:xfrm>
              <a:off x="6254640" y="1895400"/>
              <a:ext cx="10670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6432480" y="2065320"/>
              <a:ext cx="7081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0" name="Овал 5"/>
          <p:cNvGrpSpPr/>
          <p:nvPr/>
        </p:nvGrpSpPr>
        <p:grpSpPr>
          <a:xfrm>
            <a:off x="1962000" y="3895560"/>
            <a:ext cx="1073160" cy="1000440"/>
            <a:chOff x="1962000" y="3895560"/>
            <a:chExt cx="1073160" cy="1000440"/>
          </a:xfrm>
        </p:grpSpPr>
        <p:pic>
          <p:nvPicPr>
            <p:cNvPr id="391" name="Овал 5" descr=""/>
            <p:cNvPicPr/>
            <p:nvPr/>
          </p:nvPicPr>
          <p:blipFill>
            <a:blip r:embed="rId7"/>
            <a:stretch/>
          </p:blipFill>
          <p:spPr>
            <a:xfrm>
              <a:off x="1962000" y="3895560"/>
              <a:ext cx="1073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2146320" y="4065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3" name="Овал 6"/>
          <p:cNvGrpSpPr/>
          <p:nvPr/>
        </p:nvGrpSpPr>
        <p:grpSpPr>
          <a:xfrm>
            <a:off x="6254640" y="3895560"/>
            <a:ext cx="1067040" cy="1000440"/>
            <a:chOff x="6254640" y="3895560"/>
            <a:chExt cx="1067040" cy="1000440"/>
          </a:xfrm>
        </p:grpSpPr>
        <p:pic>
          <p:nvPicPr>
            <p:cNvPr id="394" name="Овал 6" descr=""/>
            <p:cNvPicPr/>
            <p:nvPr/>
          </p:nvPicPr>
          <p:blipFill>
            <a:blip r:embed="rId8"/>
            <a:stretch/>
          </p:blipFill>
          <p:spPr>
            <a:xfrm>
              <a:off x="6254640" y="3895560"/>
              <a:ext cx="106704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6432480" y="4065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396" name="Прямая со стрелкой 20"/>
          <p:cNvCxnSpPr/>
          <p:nvPr/>
        </p:nvCxnSpPr>
        <p:spPr>
          <a:xfrm flipV="1">
            <a:off x="2498760" y="2928600"/>
            <a:ext cx="2160" cy="100224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97" name="Прямая со стрелкой 22"/>
          <p:cNvCxnSpPr/>
          <p:nvPr/>
        </p:nvCxnSpPr>
        <p:spPr>
          <a:xfrm flipH="1">
            <a:off x="2854080" y="132084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98" name="Прямая со стрелкой 24"/>
          <p:cNvCxnSpPr/>
          <p:nvPr/>
        </p:nvCxnSpPr>
        <p:spPr>
          <a:xfrm>
            <a:off x="5143680" y="1320840"/>
            <a:ext cx="1289520" cy="74520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99" name="Прямая со стрелкой 26"/>
          <p:cNvCxnSpPr/>
          <p:nvPr/>
        </p:nvCxnSpPr>
        <p:spPr>
          <a:xfrm flipV="1">
            <a:off x="6786720" y="2857680"/>
            <a:ext cx="2160" cy="107316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00" name="Прямая со стрелкой 28"/>
          <p:cNvCxnSpPr/>
          <p:nvPr/>
        </p:nvCxnSpPr>
        <p:spPr>
          <a:xfrm flipH="1">
            <a:off x="5143320" y="472140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01" name="Прямая со стрелкой 30"/>
          <p:cNvCxnSpPr/>
          <p:nvPr/>
        </p:nvCxnSpPr>
        <p:spPr>
          <a:xfrm>
            <a:off x="2854440" y="472140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02" name="TextBox 25"/>
          <p:cNvSpPr/>
          <p:nvPr/>
        </p:nvSpPr>
        <p:spPr>
          <a:xfrm>
            <a:off x="2143080" y="71280"/>
            <a:ext cx="4857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Эр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ихийная, восторженн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TextBox 27"/>
          <p:cNvSpPr/>
          <p:nvPr/>
        </p:nvSpPr>
        <p:spPr>
          <a:xfrm>
            <a:off x="1500120" y="5965920"/>
            <a:ext cx="6286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г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ссудочная, реалистичная, практичн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Box 29"/>
          <p:cNvSpPr/>
          <p:nvPr/>
        </p:nvSpPr>
        <p:spPr>
          <a:xfrm>
            <a:off x="71280" y="1228680"/>
            <a:ext cx="2214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вязчивая, болезненная стра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Box 31"/>
          <p:cNvSpPr/>
          <p:nvPr/>
        </p:nvSpPr>
        <p:spPr>
          <a:xfrm>
            <a:off x="0" y="4643280"/>
            <a:ext cx="242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юду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бовь–иг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Box 32"/>
          <p:cNvSpPr/>
          <p:nvPr/>
        </p:nvSpPr>
        <p:spPr>
          <a:xfrm>
            <a:off x="6215040" y="4714920"/>
            <a:ext cx="3000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торг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бовь–не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Box 33"/>
          <p:cNvSpPr/>
          <p:nvPr/>
        </p:nvSpPr>
        <p:spPr>
          <a:xfrm>
            <a:off x="6929280" y="107172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гап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жертвенная, бескорыстна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88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92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0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Прямоугольник 2" descr=""/>
          <p:cNvPicPr/>
          <p:nvPr/>
        </p:nvPicPr>
        <p:blipFill>
          <a:blip r:embed="rId1"/>
          <a:stretch/>
        </p:blipFill>
        <p:spPr>
          <a:xfrm>
            <a:off x="858960" y="1859040"/>
            <a:ext cx="7426080" cy="19080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3"/>
          <p:cNvSpPr/>
          <p:nvPr/>
        </p:nvSpPr>
        <p:spPr>
          <a:xfrm>
            <a:off x="857160" y="285840"/>
            <a:ext cx="7286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Эрос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ихийная, восторженная любов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Цилиндр 7"/>
          <p:cNvSpPr/>
          <p:nvPr/>
        </p:nvSpPr>
        <p:spPr>
          <a:xfrm>
            <a:off x="7429680" y="5143680"/>
            <a:ext cx="571320" cy="1428480"/>
          </a:xfrm>
          <a:prstGeom prst="can">
            <a:avLst>
              <a:gd name="adj" fmla="val 10000"/>
            </a:avLst>
          </a:prstGeom>
          <a:solidFill>
            <a:srgbClr val="ff00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Цилиндр 20"/>
          <p:cNvSpPr/>
          <p:nvPr/>
        </p:nvSpPr>
        <p:spPr>
          <a:xfrm>
            <a:off x="7429680" y="3857760"/>
            <a:ext cx="57132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Цилиндр 27"/>
          <p:cNvSpPr/>
          <p:nvPr/>
        </p:nvSpPr>
        <p:spPr>
          <a:xfrm>
            <a:off x="135720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Цилиндр 29"/>
          <p:cNvSpPr/>
          <p:nvPr/>
        </p:nvSpPr>
        <p:spPr>
          <a:xfrm>
            <a:off x="135720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ffc0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Box 30"/>
          <p:cNvSpPr/>
          <p:nvPr/>
        </p:nvSpPr>
        <p:spPr>
          <a:xfrm>
            <a:off x="2143080" y="5715000"/>
            <a:ext cx="1500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Fe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Box 34"/>
          <p:cNvSpPr/>
          <p:nvPr/>
        </p:nvSpPr>
        <p:spPr>
          <a:xfrm>
            <a:off x="0" y="307188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KSC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Стрелка углом 36"/>
          <p:cNvSpPr/>
          <p:nvPr/>
        </p:nvSpPr>
        <p:spPr>
          <a:xfrm rot="5400000">
            <a:off x="1071360" y="3571920"/>
            <a:ext cx="571320" cy="857160"/>
          </a:xfrm>
          <a:custGeom>
            <a:avLst/>
            <a:gdLst/>
            <a:ahLst/>
            <a:rect l="l" t="t" r="r" b="b"/>
            <a:pathLst>
              <a:path w="571500" h="857250">
                <a:moveTo>
                  <a:pt x="0" y="85725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857250"/>
                </a:lnTo>
                <a:lnTo>
                  <a:pt x="0" y="85725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Стрелка вправо 37"/>
          <p:cNvSpPr/>
          <p:nvPr/>
        </p:nvSpPr>
        <p:spPr>
          <a:xfrm>
            <a:off x="3714840" y="5000760"/>
            <a:ext cx="2071440" cy="285480"/>
          </a:xfrm>
          <a:prstGeom prst="rightArrow">
            <a:avLst>
              <a:gd name="adj1" fmla="val 50000"/>
              <a:gd name="adj2" fmla="val 50053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TextBox 39" descr=""/>
          <p:cNvPicPr/>
          <p:nvPr/>
        </p:nvPicPr>
        <p:blipFill>
          <a:blip r:embed="rId2"/>
          <a:stretch/>
        </p:blipFill>
        <p:spPr>
          <a:xfrm>
            <a:off x="4846680" y="5419800"/>
            <a:ext cx="2511360" cy="858600"/>
          </a:xfrm>
          <a:prstGeom prst="rect">
            <a:avLst/>
          </a:prstGeom>
          <a:ln w="0">
            <a:noFill/>
          </a:ln>
        </p:spPr>
      </p:pic>
      <p:pic>
        <p:nvPicPr>
          <p:cNvPr id="419" name="TextBox 40" descr=""/>
          <p:cNvPicPr/>
          <p:nvPr/>
        </p:nvPicPr>
        <p:blipFill>
          <a:blip r:embed="rId3"/>
          <a:stretch/>
        </p:blipFill>
        <p:spPr>
          <a:xfrm>
            <a:off x="6119640" y="5950080"/>
            <a:ext cx="1451160" cy="645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3"/>
          <p:cNvSpPr/>
          <p:nvPr/>
        </p:nvSpPr>
        <p:spPr>
          <a:xfrm>
            <a:off x="857160" y="214200"/>
            <a:ext cx="7286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Verdana"/>
              </a:rPr>
              <a:t>Сторгэ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юбовь  как  неж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Цилиндр 26"/>
          <p:cNvSpPr/>
          <p:nvPr/>
        </p:nvSpPr>
        <p:spPr>
          <a:xfrm>
            <a:off x="735804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Цилиндр 27"/>
          <p:cNvSpPr/>
          <p:nvPr/>
        </p:nvSpPr>
        <p:spPr>
          <a:xfrm>
            <a:off x="1214280" y="392904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Цилиндр 28"/>
          <p:cNvSpPr/>
          <p:nvPr/>
        </p:nvSpPr>
        <p:spPr>
          <a:xfrm>
            <a:off x="735804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007eea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Цилиндр 29"/>
          <p:cNvSpPr/>
          <p:nvPr/>
        </p:nvSpPr>
        <p:spPr>
          <a:xfrm>
            <a:off x="1214280" y="5214960"/>
            <a:ext cx="571680" cy="1428840"/>
          </a:xfrm>
          <a:prstGeom prst="can">
            <a:avLst>
              <a:gd name="adj" fmla="val 10000"/>
            </a:avLst>
          </a:prstGeom>
          <a:solidFill>
            <a:srgbClr val="a7d6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Box 12"/>
          <p:cNvSpPr/>
          <p:nvPr/>
        </p:nvSpPr>
        <p:spPr>
          <a:xfrm>
            <a:off x="214200" y="1643040"/>
            <a:ext cx="892980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 + 2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NaO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Cu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OH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Na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2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Cu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Стрелка вправо 22"/>
          <p:cNvSpPr/>
          <p:nvPr/>
        </p:nvSpPr>
        <p:spPr>
          <a:xfrm>
            <a:off x="3500280" y="5072040"/>
            <a:ext cx="2509920" cy="276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Стрелка углом 24"/>
          <p:cNvSpPr/>
          <p:nvPr/>
        </p:nvSpPr>
        <p:spPr>
          <a:xfrm rot="5400000">
            <a:off x="785160" y="3357360"/>
            <a:ext cx="571680" cy="1143000"/>
          </a:xfrm>
          <a:custGeom>
            <a:avLst/>
            <a:gdLst/>
            <a:ahLst/>
            <a:rect l="l" t="t" r="r" b="b"/>
            <a:pathLst>
              <a:path w="571500" h="1143000">
                <a:moveTo>
                  <a:pt x="0" y="11430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Box 30"/>
          <p:cNvSpPr/>
          <p:nvPr/>
        </p:nvSpPr>
        <p:spPr>
          <a:xfrm>
            <a:off x="1928880" y="5857920"/>
            <a:ext cx="1928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TextBox 31" descr=""/>
          <p:cNvPicPr/>
          <p:nvPr/>
        </p:nvPicPr>
        <p:blipFill>
          <a:blip r:embed="rId1"/>
          <a:stretch/>
        </p:blipFill>
        <p:spPr>
          <a:xfrm>
            <a:off x="4700520" y="5705640"/>
            <a:ext cx="2370240" cy="860400"/>
          </a:xfrm>
          <a:prstGeom prst="rect">
            <a:avLst/>
          </a:prstGeom>
          <a:ln w="0">
            <a:noFill/>
          </a:ln>
        </p:spPr>
      </p:pic>
      <p:sp>
        <p:nvSpPr>
          <p:cNvPr id="430" name="TextBox 33"/>
          <p:cNvSpPr/>
          <p:nvPr/>
        </p:nvSpPr>
        <p:spPr>
          <a:xfrm>
            <a:off x="4714920" y="414324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Стрелка вниз 35"/>
          <p:cNvSpPr/>
          <p:nvPr/>
        </p:nvSpPr>
        <p:spPr>
          <a:xfrm>
            <a:off x="7000920" y="5786280"/>
            <a:ext cx="2142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7eea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Box 36"/>
          <p:cNvSpPr/>
          <p:nvPr/>
        </p:nvSpPr>
        <p:spPr>
          <a:xfrm>
            <a:off x="214200" y="285768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extBox 3" descr=""/>
          <p:cNvPicPr/>
          <p:nvPr/>
        </p:nvPicPr>
        <p:blipFill>
          <a:blip r:embed="rId1"/>
          <a:stretch/>
        </p:blipFill>
        <p:spPr>
          <a:xfrm>
            <a:off x="858960" y="85680"/>
            <a:ext cx="7284960" cy="1523880"/>
          </a:xfrm>
          <a:prstGeom prst="rect">
            <a:avLst/>
          </a:prstGeom>
          <a:ln w="0">
            <a:noFill/>
          </a:ln>
        </p:spPr>
      </p:pic>
      <p:sp>
        <p:nvSpPr>
          <p:cNvPr id="434" name="Цилиндр 26"/>
          <p:cNvSpPr/>
          <p:nvPr/>
        </p:nvSpPr>
        <p:spPr>
          <a:xfrm>
            <a:off x="735804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Цилиндр 27"/>
          <p:cNvSpPr/>
          <p:nvPr/>
        </p:nvSpPr>
        <p:spPr>
          <a:xfrm>
            <a:off x="1214280" y="392904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Цилиндр 28"/>
          <p:cNvSpPr/>
          <p:nvPr/>
        </p:nvSpPr>
        <p:spPr>
          <a:xfrm>
            <a:off x="735804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Цилиндр 29"/>
          <p:cNvSpPr/>
          <p:nvPr/>
        </p:nvSpPr>
        <p:spPr>
          <a:xfrm>
            <a:off x="1214280" y="521496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TextBox 12"/>
          <p:cNvSpPr/>
          <p:nvPr/>
        </p:nvSpPr>
        <p:spPr>
          <a:xfrm>
            <a:off x="0" y="1643040"/>
            <a:ext cx="91440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3Ag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3Na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3 Ag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Стрелка вправо 22"/>
          <p:cNvSpPr/>
          <p:nvPr/>
        </p:nvSpPr>
        <p:spPr>
          <a:xfrm>
            <a:off x="3500280" y="5072040"/>
            <a:ext cx="2509920" cy="276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Стрелка углом 24"/>
          <p:cNvSpPr/>
          <p:nvPr/>
        </p:nvSpPr>
        <p:spPr>
          <a:xfrm rot="5400000">
            <a:off x="785160" y="3357360"/>
            <a:ext cx="571680" cy="1143000"/>
          </a:xfrm>
          <a:custGeom>
            <a:avLst/>
            <a:gdLst/>
            <a:ahLst/>
            <a:rect l="l" t="t" r="r" b="b"/>
            <a:pathLst>
              <a:path w="571500" h="1143000">
                <a:moveTo>
                  <a:pt x="0" y="11430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TextBox 30"/>
          <p:cNvSpPr/>
          <p:nvPr/>
        </p:nvSpPr>
        <p:spPr>
          <a:xfrm>
            <a:off x="1928880" y="5929200"/>
            <a:ext cx="200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2" name="TextBox 31" descr=""/>
          <p:cNvPicPr/>
          <p:nvPr/>
        </p:nvPicPr>
        <p:blipFill>
          <a:blip r:embed="rId2"/>
          <a:stretch/>
        </p:blipFill>
        <p:spPr>
          <a:xfrm>
            <a:off x="4986360" y="5778360"/>
            <a:ext cx="2043000" cy="8604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33"/>
          <p:cNvSpPr/>
          <p:nvPr/>
        </p:nvSpPr>
        <p:spPr>
          <a:xfrm>
            <a:off x="4714920" y="414324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Стрелка вниз 35"/>
          <p:cNvSpPr/>
          <p:nvPr/>
        </p:nvSpPr>
        <p:spPr>
          <a:xfrm>
            <a:off x="7000920" y="5857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ff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TextBox 36"/>
          <p:cNvSpPr/>
          <p:nvPr/>
        </p:nvSpPr>
        <p:spPr>
          <a:xfrm>
            <a:off x="0" y="2928960"/>
            <a:ext cx="171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g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0:26:54Z</dcterms:created>
  <dc:creator>User</dc:creator>
  <dc:description/>
  <dc:language>en-US</dc:language>
  <cp:lastModifiedBy>Школа</cp:lastModifiedBy>
  <dcterms:modified xsi:type="dcterms:W3CDTF">2018-04-30T10:06:59Z</dcterms:modified>
  <cp:revision>65</cp:revision>
  <dc:subject/>
  <dc:title>Презентация PowerPoint</dc:title>
</cp:coreProperties>
</file>