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26.jpeg" ContentType="image/jpeg"/>
  <Override PartName="/ppt/media/image3.png" ContentType="image/png"/>
  <Override PartName="/ppt/media/image5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50.jpeg" ContentType="image/jpeg"/>
  <Override PartName="/ppt/media/image40.jpeg" ContentType="image/jpeg"/>
  <Override PartName="/ppt/media/image13.jpeg" ContentType="image/jpeg"/>
  <Override PartName="/ppt/media/image17.jpeg" ContentType="image/jpeg"/>
  <Override PartName="/ppt/media/chimes.wav" ContentType="audio/x-wav"/>
  <Override PartName="/ppt/media/image16.jpeg" ContentType="image/jpeg"/>
  <Override PartName="/ppt/media/image60.jpeg" ContentType="image/jpeg"/>
  <Override PartName="/ppt/media/image37.jpeg" ContentType="image/jpeg"/>
  <Override PartName="/ppt/media/image25.jpeg" ContentType="image/jpeg"/>
  <Override PartName="/ppt/media/image41.jpeg" ContentType="image/jpeg"/>
  <Override PartName="/ppt/media/image1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42.jpeg" ContentType="image/jpeg"/>
  <Override PartName="/ppt/media/image5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61.png" ContentType="image/png"/>
  <Override PartName="/ppt/media/image5.jpeg" ContentType="image/jpeg"/>
  <Override PartName="/ppt/media/image8.jpeg" ContentType="image/jpeg"/>
  <Override PartName="/ppt/media/image39.jpeg" ContentType="image/jpeg"/>
  <Override PartName="/ppt/media/image27.jpeg" ContentType="image/jpeg"/>
  <Override PartName="/ppt/media/image10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3690-A075-4B72-A292-5570336B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92776-0665-4D6A-A5F3-A46E76C1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A456-2EE3-47E4-BF67-AFC3636B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B3254-C29C-45B7-AE38-0390A941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A56CC-B0DC-4E57-8F78-0F95ED87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48E75-D796-48C0-A19F-10824C38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1B220-9876-4351-ACA3-16CE1101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54A27-14ED-4A53-8C84-1B0AA21A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9FAAD-8061-4EC0-98CF-F67CF30D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9EACB-B75C-4440-A036-641280E0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FE12C-8273-4AE2-A0AF-98E0F221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D4081-F9F3-4C7E-B2AC-A429A19A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E22A6-FE7E-4B18-B99C-97DECA94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4ADED-C08A-47FC-941E-932EE0EF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E4F61-2F36-4D68-8768-446D09D0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8B9E1-85DB-4571-9334-381356D2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0F48A-8883-452D-B936-64A72B38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5A38D-04AD-4675-8263-795209D5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5928A-5F57-41B7-B0A0-CD30CE6F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4612-A66A-4262-A607-D1A10305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F5F9C-97C5-4A7F-8F73-2EED91F2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A9D55-ACC9-4259-AEAA-A4D7D787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40CB6-B927-4A8B-8AA5-E19B5774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11B33-C31A-4D3E-A501-0C27C89F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B8DD-FD48-407B-B09D-A1A99364C6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150D-B8D7-47B4-9508-7BA3A45B5E68}" type="slidenum">
              <a:rPr b="0" lang="ru-RU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daplus.info/produce/scomber.html" TargetMode="External"/><Relationship Id="rId2" Type="http://schemas.openxmlformats.org/officeDocument/2006/relationships/image" Target="../media/image48.jpeg"/><Relationship Id="rId3" Type="http://schemas.openxmlformats.org/officeDocument/2006/relationships/hyperlink" Target="http://edaplus.info/produce/tunny.html" TargetMode="External"/><Relationship Id="rId4" Type="http://schemas.openxmlformats.org/officeDocument/2006/relationships/image" Target="../media/image49.jpeg"/><Relationship Id="rId5" Type="http://schemas.openxmlformats.org/officeDocument/2006/relationships/hyperlink" Target="http://edaplus.info/produce/hake.html" TargetMode="External"/><Relationship Id="rId6" Type="http://schemas.openxmlformats.org/officeDocument/2006/relationships/image" Target="../media/image50.jpeg"/><Relationship Id="rId7" Type="http://schemas.openxmlformats.org/officeDocument/2006/relationships/hyperlink" Target="http://edaplus.info/produce/alaska_pollack.html" TargetMode="External"/><Relationship Id="rId8" Type="http://schemas.openxmlformats.org/officeDocument/2006/relationships/image" Target="../media/image51.jpeg"/><Relationship Id="rId9" Type="http://schemas.openxmlformats.org/officeDocument/2006/relationships/hyperlink" Target="http://edaplus.info/produce/codfish.html" TargetMode="External"/><Relationship Id="rId10" Type="http://schemas.openxmlformats.org/officeDocument/2006/relationships/image" Target="../media/image52.jpeg"/><Relationship Id="rId11" Type="http://schemas.openxmlformats.org/officeDocument/2006/relationships/hyperlink" Target="http://edaplus.info/produce/haddock.html" TargetMode="External"/><Relationship Id="rId12" Type="http://schemas.openxmlformats.org/officeDocument/2006/relationships/image" Target="../media/image53.jpeg"/><Relationship Id="rId13" Type="http://schemas.openxmlformats.org/officeDocument/2006/relationships/hyperlink" Target="http://edaplus.info/produce/capelin.html" TargetMode="External"/><Relationship Id="rId14" Type="http://schemas.openxmlformats.org/officeDocument/2006/relationships/image" Target="../media/image54.jpeg"/><Relationship Id="rId15" Type="http://schemas.openxmlformats.org/officeDocument/2006/relationships/hyperlink" Target="http://edaplus.info/produce/humpback_salmon.html" TargetMode="External"/><Relationship Id="rId16" Type="http://schemas.openxmlformats.org/officeDocument/2006/relationships/image" Target="../media/image29.jpeg"/><Relationship Id="rId17" Type="http://schemas.openxmlformats.org/officeDocument/2006/relationships/hyperlink" Target="http://edaplus.info/produce/ruff.html" TargetMode="External"/><Relationship Id="rId18" Type="http://schemas.openxmlformats.org/officeDocument/2006/relationships/image" Target="../media/image55.jpeg"/><Relationship Id="rId19" Type="http://schemas.openxmlformats.org/officeDocument/2006/relationships/image" Target="../media/image30.jpeg"/><Relationship Id="rId20" Type="http://schemas.openxmlformats.org/officeDocument/2006/relationships/image" Target="../media/image56.jpeg"/><Relationship Id="rId21" Type="http://schemas.openxmlformats.org/officeDocument/2006/relationships/image" Target="../media/image57.jpeg"/><Relationship Id="rId22" Type="http://schemas.openxmlformats.org/officeDocument/2006/relationships/image" Target="../media/image58.jpeg"/><Relationship Id="rId23" Type="http://schemas.openxmlformats.org/officeDocument/2006/relationships/image" Target="../media/image59.jpeg"/><Relationship Id="rId24" Type="http://schemas.openxmlformats.org/officeDocument/2006/relationships/image" Target="../media/image60.jpeg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daplus.info/produce/dried_apricots.html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edaplus.info/produce/french_plum.html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edaplus.info/produce/raisins.html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edaplus.info/produce/bean.html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edaplus.info/produce/pea.html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edaplus.info/produce/almond.html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edaplus.info/produce/filbert.html" TargetMode="External"/><Relationship Id="rId14" Type="http://schemas.openxmlformats.org/officeDocument/2006/relationships/image" Target="../media/image11.jpeg"/><Relationship Id="rId15" Type="http://schemas.openxmlformats.org/officeDocument/2006/relationships/hyperlink" Target="http://edaplus.info/produce/pine_nut.html" TargetMode="External"/><Relationship Id="rId16" Type="http://schemas.openxmlformats.org/officeDocument/2006/relationships/image" Target="../media/image12.jpeg"/><Relationship Id="rId17" Type="http://schemas.openxmlformats.org/officeDocument/2006/relationships/hyperlink" Target="http://edaplus.info/produce/potato.html" TargetMode="External"/><Relationship Id="rId18" Type="http://schemas.openxmlformats.org/officeDocument/2006/relationships/image" Target="../media/image13.jpeg"/><Relationship Id="rId19" Type="http://schemas.openxmlformats.org/officeDocument/2006/relationships/hyperlink" Target="http://edaplus.info/produce/peanut.html" TargetMode="External"/><Relationship Id="rId20" Type="http://schemas.openxmlformats.org/officeDocument/2006/relationships/image" Target="../media/image14.jpeg"/><Relationship Id="rId21" Type="http://schemas.openxmlformats.org/officeDocument/2006/relationships/hyperlink" Target="http://edaplus.info/produce/laminaria.html" TargetMode="External"/><Relationship Id="rId22" Type="http://schemas.openxmlformats.org/officeDocument/2006/relationships/image" Target="../media/image15.jpeg"/><Relationship Id="rId23" Type="http://schemas.openxmlformats.org/officeDocument/2006/relationships/hyperlink" Target="http://edaplus.info/produce/mustard.html" TargetMode="External"/><Relationship Id="rId24" Type="http://schemas.openxmlformats.org/officeDocument/2006/relationships/image" Target="../media/image16.jpeg"/><Relationship Id="rId25" Type="http://schemas.openxmlformats.org/officeDocument/2006/relationships/hyperlink" Target="http://edaplus.info/produce/lentil.html" TargetMode="External"/><Relationship Id="rId26" Type="http://schemas.openxmlformats.org/officeDocument/2006/relationships/image" Target="../media/image17.jpeg"/><Relationship Id="rId27" Type="http://schemas.openxmlformats.org/officeDocument/2006/relationships/hyperlink" Target="http://edaplus.info/produce/cashew.html" TargetMode="External"/><Relationship Id="rId28" Type="http://schemas.openxmlformats.org/officeDocument/2006/relationships/image" Target="../media/image18.jpeg"/><Relationship Id="rId29" Type="http://schemas.openxmlformats.org/officeDocument/2006/relationships/hyperlink" Target="http://edaplus.info/produce/walnut.html" TargetMode="External"/><Relationship Id="rId30" Type="http://schemas.openxmlformats.org/officeDocument/2006/relationships/image" Target="../media/image19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aplus.info/produce/turkey.html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edaplus.info/produce/beef.html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edaplus.info/produce/pork.html" TargetMode="External"/><Relationship Id="rId6" Type="http://schemas.openxmlformats.org/officeDocument/2006/relationships/image" Target="../media/image22.jpeg"/><Relationship Id="rId7" Type="http://schemas.openxmlformats.org/officeDocument/2006/relationships/hyperlink" Target="http://edaplus.info/produce/mutton.html" TargetMode="External"/><Relationship Id="rId8" Type="http://schemas.openxmlformats.org/officeDocument/2006/relationships/image" Target="../media/image23.jpeg"/><Relationship Id="rId9" Type="http://schemas.openxmlformats.org/officeDocument/2006/relationships/hyperlink" Target="http://edaplus.info/produce/liver.html" TargetMode="External"/><Relationship Id="rId10" Type="http://schemas.openxmlformats.org/officeDocument/2006/relationships/image" Target="../media/image24.jpeg"/><Relationship Id="rId11" Type="http://schemas.openxmlformats.org/officeDocument/2006/relationships/hyperlink" Target="http://edaplus.info/produce/rabbit.html" TargetMode="External"/><Relationship Id="rId12" Type="http://schemas.openxmlformats.org/officeDocument/2006/relationships/image" Target="../media/image25.jpeg"/><Relationship Id="rId13" Type="http://schemas.openxmlformats.org/officeDocument/2006/relationships/hyperlink" Target="http://edaplus.info/produce/pike.html" TargetMode="External"/><Relationship Id="rId14" Type="http://schemas.openxmlformats.org/officeDocument/2006/relationships/image" Target="../media/image26.jpeg"/><Relationship Id="rId15" Type="http://schemas.openxmlformats.org/officeDocument/2006/relationships/hyperlink" Target="http://edaplus.info/produce/grouper.html" TargetMode="External"/><Relationship Id="rId16" Type="http://schemas.openxmlformats.org/officeDocument/2006/relationships/image" Target="../media/image27.jpeg"/><Relationship Id="rId17" Type="http://schemas.openxmlformats.org/officeDocument/2006/relationships/hyperlink" Target="http://edaplus.info/produce/sardine.html" TargetMode="External"/><Relationship Id="rId18" Type="http://schemas.openxmlformats.org/officeDocument/2006/relationships/image" Target="../media/image28.jpeg"/><Relationship Id="rId19" Type="http://schemas.openxmlformats.org/officeDocument/2006/relationships/hyperlink" Target="http://edaplus.info/produce/humpback_salmon.html" TargetMode="External"/><Relationship Id="rId20" Type="http://schemas.openxmlformats.org/officeDocument/2006/relationships/image" Target="../media/image29.jpeg"/><Relationship Id="rId21" Type="http://schemas.openxmlformats.org/officeDocument/2006/relationships/hyperlink" Target="http://edaplus.info/produce/pea.html" TargetMode="External"/><Relationship Id="rId22" Type="http://schemas.openxmlformats.org/officeDocument/2006/relationships/image" Target="../media/image9.jpeg"/><Relationship Id="rId23" Type="http://schemas.openxmlformats.org/officeDocument/2006/relationships/hyperlink" Target="http://edaplus.info/produce/flounder.html" TargetMode="External"/><Relationship Id="rId24" Type="http://schemas.openxmlformats.org/officeDocument/2006/relationships/image" Target="../media/image30.jpeg"/><Relationship Id="rId25" Type="http://schemas.openxmlformats.org/officeDocument/2006/relationships/hyperlink" Target="http://edaplus.info/produce/lancet_fish.html" TargetMode="External"/><Relationship Id="rId26" Type="http://schemas.openxmlformats.org/officeDocument/2006/relationships/image" Target="../media/image31.jpeg"/><Relationship Id="rId27" Type="http://schemas.openxmlformats.org/officeDocument/2006/relationships/hyperlink" Target="http://edaplus.info/produce/chicken.html" TargetMode="External"/><Relationship Id="rId28" Type="http://schemas.openxmlformats.org/officeDocument/2006/relationships/image" Target="../media/image32.jpeg"/><Relationship Id="rId29" Type="http://schemas.openxmlformats.org/officeDocument/2006/relationships/hyperlink" Target="http://edaplus.info/produce/egg.html" TargetMode="External"/><Relationship Id="rId30" Type="http://schemas.openxmlformats.org/officeDocument/2006/relationships/image" Target="../media/image33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aplus.info/produce/liver.html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edaplus.info/produce/pine_nut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edaplus.info/produce/camembert.html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edaplus.info/produce/peanut.html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edaplus.info/produce/beef.html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edaplus.info/produce/bean.html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edaplus.info/produce/pea.html" TargetMode="External"/><Relationship Id="rId14" Type="http://schemas.openxmlformats.org/officeDocument/2006/relationships/image" Target="../media/image9.jpeg"/><Relationship Id="rId15" Type="http://schemas.openxmlformats.org/officeDocument/2006/relationships/hyperlink" Target="http://edaplus.info/produce/mutton.html" TargetMode="External"/><Relationship Id="rId16" Type="http://schemas.openxmlformats.org/officeDocument/2006/relationships/image" Target="../media/image23.jpeg"/><Relationship Id="rId17" Type="http://schemas.openxmlformats.org/officeDocument/2006/relationships/hyperlink" Target="http://edaplus.info/produce/pork.html" TargetMode="External"/><Relationship Id="rId18" Type="http://schemas.openxmlformats.org/officeDocument/2006/relationships/image" Target="../media/image22.jpeg"/><Relationship Id="rId19" Type="http://schemas.openxmlformats.org/officeDocument/2006/relationships/hyperlink" Target="http://edaplus.info/produce/wheat.html" TargetMode="External"/><Relationship Id="rId20" Type="http://schemas.openxmlformats.org/officeDocument/2006/relationships/image" Target="../media/image35.jpeg"/><Relationship Id="rId21" Type="http://schemas.openxmlformats.org/officeDocument/2006/relationships/hyperlink" Target="http://edaplus.info/produce/buckwheat.html" TargetMode="External"/><Relationship Id="rId22" Type="http://schemas.openxmlformats.org/officeDocument/2006/relationships/image" Target="../media/image36.jpeg"/><Relationship Id="rId23" Type="http://schemas.openxmlformats.org/officeDocument/2006/relationships/hyperlink" Target="http://edaplus.info/produce/barley.html" TargetMode="External"/><Relationship Id="rId24" Type="http://schemas.openxmlformats.org/officeDocument/2006/relationships/image" Target="../media/image37.jpeg"/><Relationship Id="rId25" Type="http://schemas.openxmlformats.org/officeDocument/2006/relationships/hyperlink" Target="http://edaplus.info/produce/oatmeal.html" TargetMode="External"/><Relationship Id="rId26" Type="http://schemas.openxmlformats.org/officeDocument/2006/relationships/image" Target="../media/image38.jpe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daplus.info/produce/pistachios.html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edaplus.info/produce/liver.html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edaplus.info/produce/spinach.html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edaplus.info/produce/lentil.html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edaplus.info/produce/pea.html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edaplus.info/produce/buckwheat.html" TargetMode="External"/><Relationship Id="rId12" Type="http://schemas.openxmlformats.org/officeDocument/2006/relationships/image" Target="../media/image36.jpeg"/><Relationship Id="rId13" Type="http://schemas.openxmlformats.org/officeDocument/2006/relationships/hyperlink" Target="http://edaplus.info/produce/pigeon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://edaplus.info/produce/barley.html" TargetMode="External"/><Relationship Id="rId16" Type="http://schemas.openxmlformats.org/officeDocument/2006/relationships/image" Target="../media/image37.jpeg"/><Relationship Id="rId17" Type="http://schemas.openxmlformats.org/officeDocument/2006/relationships/hyperlink" Target="http://edaplus.info/produce/oatmeal.html" TargetMode="External"/><Relationship Id="rId18" Type="http://schemas.openxmlformats.org/officeDocument/2006/relationships/image" Target="../media/image38.jpeg"/><Relationship Id="rId19" Type="http://schemas.openxmlformats.org/officeDocument/2006/relationships/hyperlink" Target="http://edaplus.info/produce/wheat.html" TargetMode="External"/><Relationship Id="rId20" Type="http://schemas.openxmlformats.org/officeDocument/2006/relationships/image" Target="../media/image35.jpeg"/><Relationship Id="rId21" Type="http://schemas.openxmlformats.org/officeDocument/2006/relationships/hyperlink" Target="http://edaplus.info/produce/peanut.html" TargetMode="External"/><Relationship Id="rId22" Type="http://schemas.openxmlformats.org/officeDocument/2006/relationships/image" Target="../media/image14.jpeg"/><Relationship Id="rId23" Type="http://schemas.openxmlformats.org/officeDocument/2006/relationships/hyperlink" Target="http://edaplus.info/produce/cornel.html" TargetMode="External"/><Relationship Id="rId24" Type="http://schemas.openxmlformats.org/officeDocument/2006/relationships/image" Target="../media/image42.jpeg"/><Relationship Id="rId25" Type="http://schemas.openxmlformats.org/officeDocument/2006/relationships/hyperlink" Target="http://edaplus.info/produce/cashew.html" TargetMode="External"/><Relationship Id="rId26" Type="http://schemas.openxmlformats.org/officeDocument/2006/relationships/image" Target="../media/image18.jpeg"/><Relationship Id="rId27" Type="http://schemas.openxmlformats.org/officeDocument/2006/relationships/hyperlink" Target="http://edaplus.info/produce/maize.html" TargetMode="External"/><Relationship Id="rId28" Type="http://schemas.openxmlformats.org/officeDocument/2006/relationships/image" Target="../media/image43.jpeg"/><Relationship Id="rId29" Type="http://schemas.openxmlformats.org/officeDocument/2006/relationships/hyperlink" Target="http://edaplus.info/produce/pine_nut.html" TargetMode="External"/><Relationship Id="rId30" Type="http://schemas.openxmlformats.org/officeDocument/2006/relationships/image" Target="../media/image12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daplus.info/produce/wheat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edaplus.info/produce/barley.html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edaplus.info/produce/bean_sprouts.html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edaplus.info/produce/bean.html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edaplus.info/produce/peanut.html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edaplus.info/produce/almond.html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edaplus.info/produce/filbert.html" TargetMode="External"/><Relationship Id="rId14" Type="http://schemas.openxmlformats.org/officeDocument/2006/relationships/image" Target="../media/image11.jpeg"/><Relationship Id="rId15" Type="http://schemas.openxmlformats.org/officeDocument/2006/relationships/hyperlink" Target="http://edaplus.info/produce/noodles.html" TargetMode="External"/><Relationship Id="rId16" Type="http://schemas.openxmlformats.org/officeDocument/2006/relationships/image" Target="../media/image45.jpeg"/><Relationship Id="rId17" Type="http://schemas.openxmlformats.org/officeDocument/2006/relationships/image" Target="../media/image46.jpeg"/><Relationship Id="rId18" Type="http://schemas.openxmlformats.org/officeDocument/2006/relationships/hyperlink" Target="http://edaplus.info/directory-fish.html" TargetMode="External"/><Relationship Id="rId19" Type="http://schemas.openxmlformats.org/officeDocument/2006/relationships/image" Target="../media/image47.jpeg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«Волшебный»</a:t>
            </a: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витамин,</a:t>
            </a:r>
            <a:endParaRPr b="0" lang="en-US" sz="66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4200" y="1500120"/>
            <a:ext cx="8715600" cy="18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имические  элементы  в  живой  клетке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Подзаголовок 14"/>
          <p:cNvSpPr/>
          <p:nvPr/>
        </p:nvSpPr>
        <p:spPr>
          <a:xfrm>
            <a:off x="214200" y="4357800"/>
            <a:ext cx="8715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 систематизировать знания о биоэлементах,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«волшебный» витамин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324640" cy="785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66ccff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Arial"/>
              </a:rPr>
              <a:t>Фтор</a:t>
            </a:r>
            <a:endParaRPr b="0" lang="en-US" sz="60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Отвечает за созревание и отвердевание зубной эмали, помогает бороться с кариесом и пародонтозо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Участвует в росте скелета, заживлении костной ткани при переломах, предупреждает остеопороз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Стимулирует кроветворен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Снижает накопление радионуклида стронция в костях, уменьшает тяжесть лучевого поражения от этого радионуклид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2. Суточная потребность: 1,5 – 2,0 м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3. Продукты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6" name="Рисунок 13" descr="Скумбр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4429080"/>
            <a:ext cx="1571760" cy="5000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4" descr="Тунец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0280" y="43578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5" descr="Хек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2040" y="4071960"/>
            <a:ext cx="990720" cy="8334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6" descr="Минтай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15040" y="4357800"/>
            <a:ext cx="1300320" cy="5619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7" descr="Треска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43880" y="4429080"/>
            <a:ext cx="1342800" cy="5288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8" descr="Пикша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28800" y="5143680"/>
            <a:ext cx="1285920" cy="6426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9" descr="Мойва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709720" y="5072040"/>
            <a:ext cx="1148040" cy="7142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0" descr="Горбуша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334040" y="5000760"/>
            <a:ext cx="1095120" cy="7714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1" descr="Ерш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929200" y="5072040"/>
            <a:ext cx="1214640" cy="7142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2" descr="Камбалана белом фоне"/>
          <p:cNvPicPr/>
          <p:nvPr/>
        </p:nvPicPr>
        <p:blipFill>
          <a:blip r:embed="rId19"/>
          <a:stretch/>
        </p:blipFill>
        <p:spPr>
          <a:xfrm>
            <a:off x="142920" y="5867280"/>
            <a:ext cx="1233360" cy="7765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23" descr="Карасьна белом фоне"/>
          <p:cNvPicPr/>
          <p:nvPr/>
        </p:nvPicPr>
        <p:blipFill>
          <a:blip r:embed="rId20"/>
          <a:stretch/>
        </p:blipFill>
        <p:spPr>
          <a:xfrm>
            <a:off x="1500120" y="5862600"/>
            <a:ext cx="1324080" cy="7812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24" descr="Кетана белом фоне"/>
          <p:cNvPicPr/>
          <p:nvPr/>
        </p:nvPicPr>
        <p:blipFill>
          <a:blip r:embed="rId21"/>
          <a:stretch/>
        </p:blipFill>
        <p:spPr>
          <a:xfrm>
            <a:off x="2928960" y="5924520"/>
            <a:ext cx="1376280" cy="7192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5" descr="Кефальна белом фоне"/>
          <p:cNvPicPr/>
          <p:nvPr/>
        </p:nvPicPr>
        <p:blipFill>
          <a:blip r:embed="rId22"/>
          <a:stretch/>
        </p:blipFill>
        <p:spPr>
          <a:xfrm>
            <a:off x="4500720" y="5929200"/>
            <a:ext cx="1481040" cy="6955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6" descr="Корюшкана белом фоне"/>
          <p:cNvPicPr/>
          <p:nvPr/>
        </p:nvPicPr>
        <p:blipFill>
          <a:blip r:embed="rId23"/>
          <a:stretch/>
        </p:blipFill>
        <p:spPr>
          <a:xfrm>
            <a:off x="6143760" y="5929200"/>
            <a:ext cx="1366560" cy="7146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7" descr="Устрицана белом фоне"/>
          <p:cNvPicPr/>
          <p:nvPr/>
        </p:nvPicPr>
        <p:blipFill>
          <a:blip r:embed="rId24"/>
          <a:stretch/>
        </p:blipFill>
        <p:spPr>
          <a:xfrm>
            <a:off x="7677000" y="5286240"/>
            <a:ext cx="1324080" cy="1343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5" name="chimes.wav"/>
      </p:stSnd>
    </p:sndAc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324640" cy="585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Garamond"/>
              </a:rPr>
              <a:t>Рефлексия</a:t>
            </a:r>
            <a:endParaRPr b="0" lang="en-US" sz="36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Продолжи фразы:</a:t>
            </a: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ЧИСТАЯ И ЗДОРОВАЯ КОЖА, если…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УТ ШЕЛКОВИСТЫЕ ВОЛОСЫ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Ы БУДЕТЕ ПОРАЖАТЬ ВСЕХ СВОЕЙ ОСВЕДОМЛЕННОСТЬЮ И ИЗУМИТЕЛЬНОЙ ПАМЯТЬЮ, если 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АШЕ СЕРДЦЕ БУДЕТ ВЕЧНЫМ ДВИГАТЕЛЕМ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НОРМАЛЬНОЕ КРОВЯНОЕ ДАВЛЕ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ПРЕКРАСНОЕ САМОЧУВСТВ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ЖИЗНЕРАДОСТНОЕ НАСТРОЕ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ЗДОРОВОЕ И СВЕЖЕЕ ДЫХА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СБАЛАНСИРОВАННЫЙ ОБМЕН ВЕЩЕСТВ, если …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АМ  НЕ  ГРОЗИТ  ХУДОБА  И  ЛИШНИЕ  КИЛОГРАММЫ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6" descr="витамины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 rot="20251200">
            <a:off x="-1366560" y="2611080"/>
            <a:ext cx="11850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0066"/>
                </a:solidFill>
                <a:latin typeface="Monotype Corsiva"/>
              </a:rPr>
              <a:t>Спасибо за внимание</a:t>
            </a:r>
            <a:endParaRPr b="0" lang="en-US" sz="8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7" name="Picture 17" descr="колбы"/>
          <p:cNvPicPr/>
          <p:nvPr/>
        </p:nvPicPr>
        <p:blipFill>
          <a:blip r:embed="rId2"/>
          <a:stretch/>
        </p:blipFill>
        <p:spPr>
          <a:xfrm>
            <a:off x="8096400" y="0"/>
            <a:ext cx="104760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5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-103)"/>
                                      </p:to>
                                    </p:set>
                                    <p:set>
                                      <p:cBhvr>
                                        <p:cTn id="754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-103)"/>
                                      </p:to>
                                    </p:set>
                                    <p:set>
                                      <p:cBhvr>
                                        <p:cTn id="755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757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8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759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760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762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3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Клетка 4"/>
          <p:cNvPicPr/>
          <p:nvPr/>
        </p:nvPicPr>
        <p:blipFill>
          <a:blip r:embed="rId1"/>
          <a:stretch/>
        </p:blipFill>
        <p:spPr>
          <a:xfrm>
            <a:off x="2357280" y="2928960"/>
            <a:ext cx="4861080" cy="338148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3"/>
          <p:cNvSpPr/>
          <p:nvPr/>
        </p:nvSpPr>
        <p:spPr>
          <a:xfrm>
            <a:off x="357120" y="2071800"/>
            <a:ext cx="3500640" cy="1214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Макро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Скругленный прямоугольник 6"/>
          <p:cNvSpPr/>
          <p:nvPr/>
        </p:nvSpPr>
        <p:spPr>
          <a:xfrm>
            <a:off x="5357880" y="2071800"/>
            <a:ext cx="3500280" cy="1214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Микро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040" y="128160"/>
            <a:ext cx="8325000" cy="8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По содержанию в живых клетках 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99" name="Скругленный прямоугольник 11"/>
          <p:cNvSpPr/>
          <p:nvPr/>
        </p:nvSpPr>
        <p:spPr>
          <a:xfrm>
            <a:off x="7128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98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Скругленный прямоугольник 13"/>
          <p:cNvSpPr/>
          <p:nvPr/>
        </p:nvSpPr>
        <p:spPr>
          <a:xfrm>
            <a:off x="1071720" y="1071720"/>
            <a:ext cx="7358040" cy="642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Химические 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Скругленный прямоугольник 15"/>
          <p:cNvSpPr/>
          <p:nvPr/>
        </p:nvSpPr>
        <p:spPr>
          <a:xfrm>
            <a:off x="214200" y="48578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С – 20,7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Скругленный прямоугольник 16"/>
          <p:cNvSpPr/>
          <p:nvPr/>
        </p:nvSpPr>
        <p:spPr>
          <a:xfrm>
            <a:off x="214200" y="550080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Н – 9,9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Скругленный прямоугольник 17"/>
          <p:cNvSpPr/>
          <p:nvPr/>
        </p:nvSpPr>
        <p:spPr>
          <a:xfrm>
            <a:off x="214200" y="62150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N – </a:t>
            </a: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5,0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Скругленный прямоугольник 20"/>
          <p:cNvSpPr/>
          <p:nvPr/>
        </p:nvSpPr>
        <p:spPr>
          <a:xfrm>
            <a:off x="214200" y="41432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О – 62,4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Скругленный прямоугольник 21"/>
          <p:cNvSpPr/>
          <p:nvPr/>
        </p:nvSpPr>
        <p:spPr>
          <a:xfrm>
            <a:off x="257184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Скругленный прямоугольник 22"/>
          <p:cNvSpPr/>
          <p:nvPr/>
        </p:nvSpPr>
        <p:spPr>
          <a:xfrm>
            <a:off x="59292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Скругленный прямоугольник 23"/>
          <p:cNvSpPr/>
          <p:nvPr/>
        </p:nvSpPr>
        <p:spPr>
          <a:xfrm>
            <a:off x="7715160" y="48672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Скругленный прямоугольник 24"/>
          <p:cNvSpPr/>
          <p:nvPr/>
        </p:nvSpPr>
        <p:spPr>
          <a:xfrm>
            <a:off x="7715160" y="415296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Скругленный прямоугольник 25"/>
          <p:cNvSpPr/>
          <p:nvPr/>
        </p:nvSpPr>
        <p:spPr>
          <a:xfrm>
            <a:off x="8501040" y="48672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B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Скругленный прямоугольник 26"/>
          <p:cNvSpPr/>
          <p:nvPr/>
        </p:nvSpPr>
        <p:spPr>
          <a:xfrm>
            <a:off x="8501040" y="415296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Скругленный прямоугольник 27"/>
          <p:cNvSpPr/>
          <p:nvPr/>
        </p:nvSpPr>
        <p:spPr>
          <a:xfrm>
            <a:off x="6858000" y="48578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Z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Скругленный прямоугольник 28"/>
          <p:cNvSpPr/>
          <p:nvPr/>
        </p:nvSpPr>
        <p:spPr>
          <a:xfrm>
            <a:off x="68580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F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Скругленный прямоугольник 29"/>
          <p:cNvSpPr/>
          <p:nvPr/>
        </p:nvSpPr>
        <p:spPr>
          <a:xfrm>
            <a:off x="5929200" y="48578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Скругленный прямоугольник 30"/>
          <p:cNvSpPr/>
          <p:nvPr/>
        </p:nvSpPr>
        <p:spPr>
          <a:xfrm>
            <a:off x="8001000" y="55818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Скругленный прямоугольник 32"/>
          <p:cNvSpPr/>
          <p:nvPr/>
        </p:nvSpPr>
        <p:spPr>
          <a:xfrm>
            <a:off x="2786040" y="56437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Скругленный прямоугольник 33"/>
          <p:cNvSpPr/>
          <p:nvPr/>
        </p:nvSpPr>
        <p:spPr>
          <a:xfrm>
            <a:off x="428616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Скругленный прямоугольник 34"/>
          <p:cNvSpPr/>
          <p:nvPr/>
        </p:nvSpPr>
        <p:spPr>
          <a:xfrm>
            <a:off x="34290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Скругленный прямоугольник 35"/>
          <p:cNvSpPr/>
          <p:nvPr/>
        </p:nvSpPr>
        <p:spPr>
          <a:xfrm>
            <a:off x="2786040" y="49291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Скругленный прямоугольник 36"/>
          <p:cNvSpPr/>
          <p:nvPr/>
        </p:nvSpPr>
        <p:spPr>
          <a:xfrm>
            <a:off x="3929040" y="49291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Скругленный прямоугольник 37"/>
          <p:cNvSpPr/>
          <p:nvPr/>
        </p:nvSpPr>
        <p:spPr>
          <a:xfrm>
            <a:off x="3929040" y="565308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Скругленный прямоугольник 38"/>
          <p:cNvSpPr/>
          <p:nvPr/>
        </p:nvSpPr>
        <p:spPr>
          <a:xfrm>
            <a:off x="6572160" y="557208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Скругленный прямоугольник 39"/>
          <p:cNvSpPr/>
          <p:nvPr/>
        </p:nvSpPr>
        <p:spPr>
          <a:xfrm>
            <a:off x="250020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1,9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Скругленный прямоугольник 40"/>
          <p:cNvSpPr/>
          <p:nvPr/>
        </p:nvSpPr>
        <p:spPr>
          <a:xfrm>
            <a:off x="621504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0,1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Стрелка вниз 31"/>
          <p:cNvSpPr/>
          <p:nvPr/>
        </p:nvSpPr>
        <p:spPr>
          <a:xfrm>
            <a:off x="2571840" y="171468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Стрелка вниз 41"/>
          <p:cNvSpPr/>
          <p:nvPr/>
        </p:nvSpPr>
        <p:spPr>
          <a:xfrm>
            <a:off x="6215040" y="171468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Стрелка вниз 42"/>
          <p:cNvSpPr/>
          <p:nvPr/>
        </p:nvSpPr>
        <p:spPr>
          <a:xfrm>
            <a:off x="92880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Стрелка вниз 43"/>
          <p:cNvSpPr/>
          <p:nvPr/>
        </p:nvSpPr>
        <p:spPr>
          <a:xfrm>
            <a:off x="307188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Стрелка вниз 44"/>
          <p:cNvSpPr/>
          <p:nvPr/>
        </p:nvSpPr>
        <p:spPr>
          <a:xfrm>
            <a:off x="728676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pic>
        <p:nvPicPr>
          <p:cNvPr id="130" name="Picture 2" descr="C:\Users\SuperGrandMa\Desktop\ВОЛШЕБНЫЙ ВИТАМИН\ХИМИЧЕСКИЕ ЭЛЕМЕНТ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14200" y="1790640"/>
            <a:ext cx="8701200" cy="4734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99ff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ding2675.wav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13840" y="266400"/>
            <a:ext cx="89298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aramond"/>
              </a:rPr>
              <a:t>План характеристики элемента</a:t>
            </a:r>
            <a:endParaRPr b="0" lang="en-US" sz="48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34" name="Содержимое 2"/>
          <p:cNvSpPr/>
          <p:nvPr/>
        </p:nvSpPr>
        <p:spPr>
          <a:xfrm>
            <a:off x="214200" y="1790640"/>
            <a:ext cx="892980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ение в организме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очная норма потреблени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продуктах содержитс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ияние дефицита и избытка элемента на здоровье человек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 подлежит ли добавлению в «волшебный» витамин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" y="40932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Arial"/>
              </a:rPr>
              <a:t>Калий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4200" y="1571760"/>
            <a:ext cx="87012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. Необходим для нормального функционирования всех мышц, особенно сердечной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страняет отеки, способствует выводу воды из организм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егулирует артериальное давление и сердечный рит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беспечивает прохождение импульса по нервной систем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3 – 5 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7" name="Рисунок 22" descr="Кураг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4143240"/>
            <a:ext cx="928800" cy="10004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3" descr="Чернослив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72080" y="4124160"/>
            <a:ext cx="1014480" cy="10195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4" descr="Изюм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4143240"/>
            <a:ext cx="905040" cy="10004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5" descr="Фасоль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85920" y="4143240"/>
            <a:ext cx="1133280" cy="10098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7" descr="Горох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00680" y="4143240"/>
            <a:ext cx="1352520" cy="10004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8" descr="Минда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001000" y="4143240"/>
            <a:ext cx="928800" cy="10004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9" descr="Фундук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1280" y="5357880"/>
            <a:ext cx="1000440" cy="942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0" descr="Кедровые орехи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86080" y="53578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1" descr="Картофель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572080" y="5357880"/>
            <a:ext cx="986040" cy="928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2" descr="Арахис на белом фоне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286000" y="5357880"/>
            <a:ext cx="857160" cy="9288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33" descr="Морская капуста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714760" y="4148280"/>
            <a:ext cx="1042920" cy="10666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5" descr="Горчиц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429080" y="535788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36" descr="Чечевиц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143000" y="535788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7" descr="Кешью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715080" y="5357880"/>
            <a:ext cx="1119240" cy="8571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38" descr="Грецкий орех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7929720" y="5357880"/>
            <a:ext cx="1143000" cy="928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040" y="40932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Сера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3366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Необходима для здоровья кожи, ногтей и волос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казывает противоаллергическое действ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грает роль в свертывании крови, очищает кров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пособствует работе мозга, стимулирует клеточное дыхан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1 г (поступает с белками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4" name="Рисунок 18" descr="Индейк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80" y="3857760"/>
            <a:ext cx="928800" cy="1004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9" descr="Говядина 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4280" y="4071960"/>
            <a:ext cx="117180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0" descr="Свинина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71840" y="3929040"/>
            <a:ext cx="1038240" cy="9288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6" descr="Баранина на белом фоне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86120" y="4000680"/>
            <a:ext cx="1152720" cy="8571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4" descr="Печень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43680" y="4000680"/>
            <a:ext cx="1157040" cy="8571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39" descr="Кролик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29240" y="4000680"/>
            <a:ext cx="1076400" cy="8571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0" descr="Щука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643880" y="4214880"/>
            <a:ext cx="1357200" cy="6429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1" descr="Морской окунь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2920" y="5000760"/>
            <a:ext cx="1209600" cy="6001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42" descr="Сардина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214280" y="5857920"/>
            <a:ext cx="1138320" cy="5713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3" descr="Горбуш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214720" y="5000760"/>
            <a:ext cx="1095120" cy="7714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4" descr="Горох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357720" y="585792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5" descr="Камбал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500720" y="5000760"/>
            <a:ext cx="1214280" cy="7761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6" descr="Зубатк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429160" y="5929200"/>
            <a:ext cx="1443240" cy="4287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7" descr="Курица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786720" y="5000760"/>
            <a:ext cx="1000080" cy="7477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48" descr="Яйцо куринное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8001000" y="5572080"/>
            <a:ext cx="928800" cy="785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99cc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5"/>
          <p:cNvSpPr/>
          <p:nvPr/>
        </p:nvSpPr>
        <p:spPr>
          <a:xfrm>
            <a:off x="8101080" y="198900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8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Arial"/>
              </a:rPr>
              <a:t>Цинк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тиоксидант. Препятствует образованию агрессивных активных форм кислород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ладает антивирусным и антитоксическим свойствами, участвует в борьбе с инфекционными болезнями и рако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т в состав 200 ферментов и гормона инсулина, регулирующего уровень сахара в кров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нк способствует росту и развитию человека, необходим для полового созревания и продолжения потомства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ивает возможность ощущать вкус, запах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очная потребность: 10 – 15 мг. (но не более 25 мг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72" name="Рисунок 16" descr="Печень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6120" y="5000760"/>
            <a:ext cx="1157040" cy="7142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7" descr="Кедровые орехи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00480" y="5000760"/>
            <a:ext cx="771480" cy="7333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8" descr="Камамбер и бри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14880" y="5000760"/>
            <a:ext cx="1123920" cy="714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9" descr="Арахис на белом фоне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00800" y="5000760"/>
            <a:ext cx="885600" cy="7142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0" descr="Говядина 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72160" y="5000760"/>
            <a:ext cx="1171800" cy="7236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1" descr="Фасо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867800" y="4705200"/>
            <a:ext cx="1133280" cy="1009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22" descr="Горох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2920" y="5929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3" descr="Баранина на белом фоне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357200" y="58579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4" descr="Свинина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676600" y="5786280"/>
            <a:ext cx="1038240" cy="8575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25" descr="Пшениц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929040" y="5857920"/>
            <a:ext cx="1143000" cy="7999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26" descr="Гречка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286240" y="5929200"/>
            <a:ext cx="1143000" cy="7146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27" descr="Ячневая круп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676920" y="5786280"/>
            <a:ext cx="8953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28" descr="Овсянк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767720" y="5929200"/>
            <a:ext cx="1162080" cy="733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7" name="chimes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90040" y="48060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Arial"/>
              </a:rPr>
              <a:t>Железо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14200" y="1571760"/>
            <a:ext cx="87012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. Участвует в образовании гемоглобина в кров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частвует в образовании иммунных защитных клеток, требуется для «работы» витаминов группы 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частвует в синтезе гормонов щитовидной железы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ходит в состав 70 различных ферменто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10 – 18 м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7" name="Рисунок 18" descr="Фисташки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3920" y="4071960"/>
            <a:ext cx="1276200" cy="5191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9" descr="Печень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4714920"/>
            <a:ext cx="1285920" cy="7142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0" descr="Шпинат 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14680" y="435780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26" descr="Чечевица 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86040" y="4214880"/>
            <a:ext cx="933480" cy="7714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4" descr="Горох 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00680" y="4214880"/>
            <a:ext cx="1071360" cy="7858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39" descr="Гречка 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286240" y="4214880"/>
            <a:ext cx="1214640" cy="79524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0" descr="Голубь 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767640" y="4214880"/>
            <a:ext cx="1019160" cy="8190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1" descr="Ячневая крупа 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8001000" y="4214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2" descr="Овсянка 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2920" y="5572080"/>
            <a:ext cx="1143000" cy="8762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3" descr="Пшениц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500120" y="5643720"/>
            <a:ext cx="1143000" cy="7999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44" descr="Арахис 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928960" y="5643720"/>
            <a:ext cx="928800" cy="8283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45" descr="Кизил 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119480" y="5643720"/>
            <a:ext cx="952560" cy="7808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6" descr="Кешью 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310360" y="5643720"/>
            <a:ext cx="1118880" cy="7855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7" descr="Кукуруза 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572160" y="5572080"/>
            <a:ext cx="1071720" cy="8571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8" descr="Кедровые орехи 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7786800" y="5572080"/>
            <a:ext cx="1214280" cy="876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324640" cy="785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66ccff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Бром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1. Регулирует процессы торможения и возбуждения ЦНС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Входит в состав желудочного сока, оказывает влияние на его кислотност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Активизирует половую функцию, регулирует количество сперматозоидо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2. Суточная потребность: 0,5 – 1 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3. Продукты</a:t>
            </a:r>
            <a:r>
              <a:rPr b="1" lang="ru-RU" sz="2400" spc="-1" strike="noStrike">
                <a:solidFill>
                  <a:srgbClr val="4d004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а также полезно дышать морским воздухом!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4" name="Рисунок 3" descr="Пшениц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71800" y="3786120"/>
            <a:ext cx="1143000" cy="8002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Ячневая крупа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19560" y="4286160"/>
            <a:ext cx="895320" cy="8575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Бобына белом фоне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90840" y="3786120"/>
            <a:ext cx="1209960" cy="74304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6" descr="Фасоль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72080" y="4214880"/>
            <a:ext cx="1133640" cy="10094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7" descr="Арахис на белом фоне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0" y="3714840"/>
            <a:ext cx="1071720" cy="10000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8" descr="Минда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072280" y="4143240"/>
            <a:ext cx="1000440" cy="100044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9" descr="Фундук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0120" y="4929120"/>
            <a:ext cx="1114560" cy="9432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0" descr="Макаронные изделия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114640" y="4929120"/>
            <a:ext cx="1028520" cy="9432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1" descr="Сметанана белом фоне"/>
          <p:cNvPicPr/>
          <p:nvPr/>
        </p:nvPicPr>
        <p:blipFill>
          <a:blip r:embed="rId17"/>
          <a:stretch/>
        </p:blipFill>
        <p:spPr>
          <a:xfrm>
            <a:off x="4357800" y="4929120"/>
            <a:ext cx="1038240" cy="9669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2" descr="Сельдьна белом фоне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000920" y="5214960"/>
            <a:ext cx="1685880" cy="71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0" name="chimes.wav"/>
      </p:stSnd>
    </p:sndAc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34:22Z</dcterms:created>
  <dc:creator>user</dc:creator>
  <dc:description/>
  <dc:language>en-US</dc:language>
  <cp:lastModifiedBy>SuperGrandMa</cp:lastModifiedBy>
  <dcterms:modified xsi:type="dcterms:W3CDTF">2018-05-11T06:21:50Z</dcterms:modified>
  <cp:revision>171</cp:revision>
  <dc:subject/>
  <dc:title>Слайд 1</dc:title>
</cp:coreProperties>
</file>