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gif" ContentType="image/gif"/>
  <Override PartName="/ppt/media/image25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gif" ContentType="image/gif"/>
  <Override PartName="/ppt/media/image65.png" ContentType="image/png"/>
  <Override PartName="/ppt/media/image27.png" ContentType="image/png"/>
  <Override PartName="/ppt/media/image33.jpeg" ContentType="image/jpe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674-7FA8-4927-B28C-F37F271C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8DE-D9DE-4879-9E69-2538F351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858-EC71-498A-AD42-B42E9205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E08-E2FB-4E5E-B698-099539AD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097B-8E4A-437C-99E9-597FEFD5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4F3-2684-466D-87DD-6643BA42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24D3-7E49-4E9D-A5E1-A15A0EE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2596-C45E-49DC-AEB9-41F93CA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C6F5-2FAD-41EF-923B-EC3386F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79F-64BF-4A13-8223-3D5ECEFB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257-026E-4222-8024-B63AB72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A41-D1CF-48EC-9504-512755D6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908E-C8FB-480F-8687-DE1CC37A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75F8-0850-4AA5-BC46-B9BDF96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E9E-9583-4F0B-9081-FEF03760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3BD5-1DE4-4400-9998-B7B11E14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73BA-4C91-4441-AFE6-26078111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13B9-81B8-48D6-8BA1-2EEF1FBA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AB94-F729-4135-A8B0-280C8A0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567B-23CA-4A38-980B-DB6867A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BF96-9A8B-4F88-AC32-8CC16E5F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08EB-4406-4948-8780-F23F411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400-C93C-4268-B886-015965D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49D6-72F8-483F-B159-FD2861F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97FC-07E7-4D6F-BB08-3BE095A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A350-9322-4098-ACC6-521B359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1318-D984-4373-8B64-B83E78F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BABC-0FD0-4C94-9099-EB0ECAD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69E0-35FD-4165-94D6-A1177459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BFE4-3D1F-4AE6-BC3C-1B87E057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5686-5FE4-455C-BC94-90872EF8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550C-8255-484B-95BB-8D4B2DB5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FAAC-8BDE-487E-AF44-1A7C462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C5A-36AC-4764-84D7-84199E8A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55E1-99B5-400E-9086-9297E7D7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30A9-2677-4D1A-BA04-71FA348D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0044-DEB7-48F1-9450-758504B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0099-2372-40CC-A289-66DBD6A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5220-08C9-4B89-B7AB-B28DC0F3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819C-7618-414C-AB1E-1E0D20F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BE6F-4B3E-4973-A1F4-B9323DEE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B876-87A9-4D43-BF7D-89188C21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1551-2BA1-4ADF-A1D3-165BF68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28D-7EF9-439A-8039-757DCAE9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DC0-B1EC-433C-AFFE-EA12AF7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79B-F31D-40CE-8C7F-B452CCD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B97-D0A0-4E98-A78D-0B7C4A8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CC2-98B3-4E38-A3E2-7AC1075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833C-7238-4562-9061-E58EFBCC226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10EB-2E78-4E6B-9E3A-B39543540D7B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3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3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4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4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5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64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6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7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6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7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7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7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8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8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8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442A-6E61-49CE-9A1D-A6C5558CB94D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25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25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26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26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6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7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7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7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7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D45-7B3F-45CC-BDEE-0E59203865F9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67608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3" name="Рисунок 6" descr="Это Я - сентябрь 2012.JPG"/>
          <p:cNvPicPr/>
          <p:nvPr/>
        </p:nvPicPr>
        <p:blipFill>
          <a:blip r:embed="rId2"/>
          <a:stretch/>
        </p:blipFill>
        <p:spPr>
          <a:xfrm>
            <a:off x="642960" y="3000240"/>
            <a:ext cx="1731960" cy="2597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2643120" y="3143160"/>
            <a:ext cx="6215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дежда Валенти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Учитель химии ГБОУ СОШ № 422 Кронштадтского рай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286080" y="578340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95480" y="2146320"/>
            <a:ext cx="34322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47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448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451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3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454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6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457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9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460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463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465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6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7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8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9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70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71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3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0" y="1868400"/>
            <a:ext cx="91440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(OH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)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30"/>
          <p:cNvSpPr/>
          <p:nvPr/>
        </p:nvSpPr>
        <p:spPr>
          <a:xfrm>
            <a:off x="1928880" y="5929200"/>
            <a:ext cx="2000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36"/>
          <p:cNvSpPr/>
          <p:nvPr/>
        </p:nvSpPr>
        <p:spPr>
          <a:xfrm>
            <a:off x="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2"/>
          <a:stretch/>
        </p:blipFill>
        <p:spPr>
          <a:xfrm>
            <a:off x="4846680" y="5705640"/>
            <a:ext cx="230328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extBox 3" descr=""/>
          <p:cNvPicPr/>
          <p:nvPr/>
        </p:nvPicPr>
        <p:blipFill>
          <a:blip r:embed="rId1"/>
          <a:stretch/>
        </p:blipFill>
        <p:spPr>
          <a:xfrm>
            <a:off x="182520" y="85680"/>
            <a:ext cx="9004320" cy="1523880"/>
          </a:xfrm>
          <a:prstGeom prst="rect">
            <a:avLst/>
          </a:prstGeom>
          <a:ln w="0">
            <a:noFill/>
          </a:ln>
        </p:spPr>
      </p:pic>
      <p:sp>
        <p:nvSpPr>
          <p:cNvPr id="492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85840" y="1714680"/>
            <a:ext cx="85723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6"/>
          <p:cNvSpPr/>
          <p:nvPr/>
        </p:nvSpPr>
        <p:spPr>
          <a:xfrm>
            <a:off x="21420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TextBox 18" descr=""/>
          <p:cNvPicPr/>
          <p:nvPr/>
        </p:nvPicPr>
        <p:blipFill>
          <a:blip r:embed="rId2"/>
          <a:stretch/>
        </p:blipFill>
        <p:spPr>
          <a:xfrm>
            <a:off x="4632480" y="5705640"/>
            <a:ext cx="230472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юбовь  как  притяжение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06" name="Рисунок 8" descr="5 видов любви. Классификация психологов "/>
          <p:cNvPicPr/>
          <p:nvPr/>
        </p:nvPicPr>
        <p:blipFill>
          <a:blip r:embed="rId2"/>
          <a:stretch/>
        </p:blipFill>
        <p:spPr>
          <a:xfrm>
            <a:off x="1952640" y="2381400"/>
            <a:ext cx="5238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9" descr="http://www.sev-chem.narod.ru/Different/love.files/image002.gif"/>
          <p:cNvPicPr/>
          <p:nvPr/>
        </p:nvPicPr>
        <p:blipFill>
          <a:blip r:embed="rId1"/>
          <a:stretch/>
        </p:blipFill>
        <p:spPr>
          <a:xfrm>
            <a:off x="209520" y="2500200"/>
            <a:ext cx="22906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14760" y="250020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-фенилэтилам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- «Вещество любви» синтезируется в организ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начальном периоде возникновения чувства люб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357120" y="364320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ндорф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- «гормоны радости». По мнению некоторых ученых, за развитие последующей влюбленности ответственны эндорфины, т.е. 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«молекулы долговременных любовных отношен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2714760" y="201600"/>
            <a:ext cx="3714480" cy="58140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щества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214200" y="110016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фетам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2000160" y="181440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ром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5643720" y="181440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фродизиа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3571920" y="107172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дорф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6643800" y="107172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ситоц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357120" y="5149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кситоци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интезируется в гипоталамусе. Существует гипотеза, что окситоци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зывает чувство вер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4" descr="муж и жен начало 3.jpeg"/>
          <p:cNvPicPr/>
          <p:nvPr/>
        </p:nvPicPr>
        <p:blipFill>
          <a:blip r:embed="rId2"/>
          <a:stretch/>
        </p:blipFill>
        <p:spPr>
          <a:xfrm>
            <a:off x="2214720" y="800280"/>
            <a:ext cx="4635360" cy="2271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572160" y="271476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858000" y="2954160"/>
            <a:ext cx="242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анг – ила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мар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ргам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типгрей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см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льма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28760" y="3000240"/>
            <a:ext cx="22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ед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ач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анд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р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ус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би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ети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3500280" y="36687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йпфру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ва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йное дере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ал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28760" y="154620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215120" y="15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2071800" y="3048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 и 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500040" y="1303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фродизиаки – ароматы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857160" y="6286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зиция люб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8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9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87280" y="2858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11" descr="Жёлтая шляпа"/>
          <p:cNvPicPr/>
          <p:nvPr/>
        </p:nvPicPr>
        <p:blipFill>
          <a:blip r:embed="rId2"/>
          <a:stretch/>
        </p:blipFill>
        <p:spPr>
          <a:xfrm>
            <a:off x="1071720" y="41878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5075280" y="3860640"/>
            <a:ext cx="363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Arial"/>
              </a:rPr>
              <a:t>Жёлтая шляпа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лнечный, жизнеутверждающий цвет. Она полна оптимизма, под ней живёт надежда и позитивное мыш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Conjure_Moon.mp3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расная шляпа"/>
          <p:cNvPicPr/>
          <p:nvPr/>
        </p:nvPicPr>
        <p:blipFill>
          <a:blip r:embed="rId4"/>
          <a:stretch/>
        </p:blipFill>
        <p:spPr>
          <a:xfrm>
            <a:off x="5167440" y="17146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7"/>
          <p:cNvSpPr/>
          <p:nvPr/>
        </p:nvSpPr>
        <p:spPr>
          <a:xfrm>
            <a:off x="857160" y="178596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0b05"/>
                </a:solidFill>
                <a:latin typeface="Verdana"/>
                <a:ea typeface="Arial"/>
              </a:rPr>
              <a:t>Красная шляпа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восприятия действительности на уровне чувств. В ней можно отдать себя во власть эмо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222200" y="27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187280" y="857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2876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ёрная шляп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чёрный цвет мрачный, зловещий, словом – недобрый. Это критика, доходящая до въедл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8" descr="Чёрная шляпа"/>
          <p:cNvPicPr/>
          <p:nvPr/>
        </p:nvPicPr>
        <p:blipFill>
          <a:blip r:embed="rId2"/>
          <a:stretch/>
        </p:blipFill>
        <p:spPr>
          <a:xfrm>
            <a:off x="4809960" y="1714680"/>
            <a:ext cx="3119760" cy="1884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Зелёная шляпа"/>
          <p:cNvPicPr/>
          <p:nvPr/>
        </p:nvPicPr>
        <p:blipFill>
          <a:blip r:embed="rId3"/>
          <a:stretch/>
        </p:blipFill>
        <p:spPr>
          <a:xfrm>
            <a:off x="785880" y="4143240"/>
            <a:ext cx="3119400" cy="1886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4714920" y="407196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  <a:ea typeface="Arial"/>
              </a:rPr>
              <a:t>Зелёная шляпа</a:t>
            </a:r>
            <a:r>
              <a:rPr b="1" lang="ru-RU" sz="1800" spc="-1" strike="noStrike">
                <a:solidFill>
                  <a:srgbClr val="006600"/>
                </a:solidFill>
                <a:latin typeface="Verdana"/>
                <a:ea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свежей листвы, изобилия и плодородия. Она символизирует творческое начало и рассвет новых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3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87280" y="3571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973760" y="425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Белая шляпа</a:t>
            </a:r>
            <a:r>
              <a:rPr b="1" lang="ru-RU" sz="18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e1e1e1"/>
                </a:solidFill>
                <a:latin typeface="Verdana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белый цвет беспристрастен и объективен. В ней «варятся» мысли, «замешанные» на цифрах и фак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1" descr="Белая шляпа"/>
          <p:cNvPicPr/>
          <p:nvPr/>
        </p:nvPicPr>
        <p:blipFill>
          <a:blip r:embed="rId1"/>
          <a:stretch/>
        </p:blipFill>
        <p:spPr>
          <a:xfrm>
            <a:off x="785880" y="4429080"/>
            <a:ext cx="3119400" cy="188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Синяя шляпа"/>
          <p:cNvPicPr/>
          <p:nvPr/>
        </p:nvPicPr>
        <p:blipFill>
          <a:blip r:embed="rId2"/>
          <a:stretch/>
        </p:blipFill>
        <p:spPr>
          <a:xfrm>
            <a:off x="5238720" y="1500120"/>
            <a:ext cx="3119400" cy="18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57168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  <a:ea typeface="Arial"/>
              </a:rPr>
              <a:t>Синяя шляпа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ний цвет холодный, это цвет неба. Она связана с организацией, обобщением того, что достигнут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" descr=""/>
          <p:cNvPicPr/>
          <p:nvPr/>
        </p:nvPicPr>
        <p:blipFill>
          <a:blip r:embed="rId2"/>
          <a:stretch/>
        </p:blipFill>
        <p:spPr>
          <a:xfrm>
            <a:off x="781200" y="5924520"/>
            <a:ext cx="758160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23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,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юбовь  к  химии.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571680" y="40006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 как    хим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али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рит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Рисунок 18" descr="khimicheskij_opyt_jpg.gif"/>
          <p:cNvPicPr/>
          <p:nvPr/>
        </p:nvPicPr>
        <p:blipFill>
          <a:blip r:embed="rId2"/>
          <a:stretch/>
        </p:blipFill>
        <p:spPr>
          <a:xfrm>
            <a:off x="4233960" y="357192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1" descr="Аромат 5.jpeg"/>
          <p:cNvPicPr/>
          <p:nvPr/>
        </p:nvPicPr>
        <p:blipFill>
          <a:blip r:embed="rId3"/>
          <a:stretch/>
        </p:blipFill>
        <p:spPr>
          <a:xfrm>
            <a:off x="4714920" y="5411880"/>
            <a:ext cx="18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2" descr="Аромат 7.jpeg"/>
          <p:cNvPicPr/>
          <p:nvPr/>
        </p:nvPicPr>
        <p:blipFill>
          <a:blip r:embed="rId4"/>
          <a:stretch/>
        </p:blipFill>
        <p:spPr>
          <a:xfrm>
            <a:off x="7215120" y="5394240"/>
            <a:ext cx="1681200" cy="1177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23" descr="Палитра надо.jpeg"/>
          <p:cNvPicPr/>
          <p:nvPr/>
        </p:nvPicPr>
        <p:blipFill>
          <a:blip r:embed="rId5"/>
          <a:stretch/>
        </p:blipFill>
        <p:spPr>
          <a:xfrm>
            <a:off x="6572160" y="385776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5"/>
          <p:cNvSpPr/>
          <p:nvPr/>
        </p:nvSpPr>
        <p:spPr>
          <a:xfrm>
            <a:off x="142920" y="31813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Взглянуть на предмет другими глаза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1071720" y="3000240"/>
            <a:ext cx="6643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влюблен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 +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NaCl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3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Стрелка вправо 12"/>
          <p:cNvSpPr/>
          <p:nvPr/>
        </p:nvSpPr>
        <p:spPr>
          <a:xfrm>
            <a:off x="4214880" y="5000760"/>
            <a:ext cx="2071800" cy="2854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Цилиндр 13"/>
          <p:cNvSpPr/>
          <p:nvPr/>
        </p:nvSpPr>
        <p:spPr>
          <a:xfrm>
            <a:off x="2857680" y="4357800"/>
            <a:ext cx="571320" cy="135720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Цилиндр 14"/>
          <p:cNvSpPr/>
          <p:nvPr/>
        </p:nvSpPr>
        <p:spPr>
          <a:xfrm>
            <a:off x="2857680" y="5572080"/>
            <a:ext cx="571320" cy="1071720"/>
          </a:xfrm>
          <a:prstGeom prst="can">
            <a:avLst>
              <a:gd name="adj" fmla="val 13333"/>
            </a:avLst>
          </a:prstGeom>
          <a:solidFill>
            <a:srgbClr val="b0105c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0" y="5929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0" y="33447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енолфтале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Стрелка вправо 19"/>
          <p:cNvSpPr/>
          <p:nvPr/>
        </p:nvSpPr>
        <p:spPr>
          <a:xfrm>
            <a:off x="1785960" y="5000760"/>
            <a:ext cx="938160" cy="2854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трелка углом вверх 20"/>
          <p:cNvSpPr/>
          <p:nvPr/>
        </p:nvSpPr>
        <p:spPr>
          <a:xfrm rot="10800000">
            <a:off x="7715160" y="392904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Box 21"/>
          <p:cNvSpPr/>
          <p:nvPr/>
        </p:nvSpPr>
        <p:spPr>
          <a:xfrm>
            <a:off x="8001000" y="3333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HC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страстн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g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Схема 6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570880" cy="2487600"/>
          </a:xfrm>
          <a:prstGeom prst="rect">
            <a:avLst/>
          </a:prstGeom>
          <a:ln w="0">
            <a:noFill/>
          </a:ln>
        </p:spPr>
      </p:pic>
      <p:sp>
        <p:nvSpPr>
          <p:cNvPr id="352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зрел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Zn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6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89360" y="2139840"/>
            <a:ext cx="34448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379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382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385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388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391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394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96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7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8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9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0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1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2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859040"/>
            <a:ext cx="742608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857160" y="28584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Эро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хийная, восторженная 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Цилиндр 7"/>
          <p:cNvSpPr/>
          <p:nvPr/>
        </p:nvSpPr>
        <p:spPr>
          <a:xfrm>
            <a:off x="7429680" y="5143680"/>
            <a:ext cx="571320" cy="1428480"/>
          </a:xfrm>
          <a:prstGeom prst="can">
            <a:avLst>
              <a:gd name="adj" fmla="val 10000"/>
            </a:avLst>
          </a:prstGeom>
          <a:solidFill>
            <a:srgbClr val="ff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Цилиндр 20"/>
          <p:cNvSpPr/>
          <p:nvPr/>
        </p:nvSpPr>
        <p:spPr>
          <a:xfrm>
            <a:off x="7429680" y="3857760"/>
            <a:ext cx="57132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Цилиндр 27"/>
          <p:cNvSpPr/>
          <p:nvPr/>
        </p:nvSpPr>
        <p:spPr>
          <a:xfrm>
            <a:off x="135720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Цилиндр 29"/>
          <p:cNvSpPr/>
          <p:nvPr/>
        </p:nvSpPr>
        <p:spPr>
          <a:xfrm>
            <a:off x="135720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c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2143080" y="5715000"/>
            <a:ext cx="150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0" y="3071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KSC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Стрелка углом 36"/>
          <p:cNvSpPr/>
          <p:nvPr/>
        </p:nvSpPr>
        <p:spPr>
          <a:xfrm rot="5400000">
            <a:off x="1071360" y="3571920"/>
            <a:ext cx="571320" cy="857160"/>
          </a:xfrm>
          <a:custGeom>
            <a:avLst/>
            <a:gdLst/>
            <a:ahLst/>
            <a:rect l="l" t="t" r="r" b="b"/>
            <a:pathLst>
              <a:path w="571500" h="857250">
                <a:moveTo>
                  <a:pt x="0" y="85725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Стрелка вправо 37"/>
          <p:cNvSpPr/>
          <p:nvPr/>
        </p:nvSpPr>
        <p:spPr>
          <a:xfrm>
            <a:off x="3714840" y="5000760"/>
            <a:ext cx="2071440" cy="28548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TextBox 39" descr=""/>
          <p:cNvPicPr/>
          <p:nvPr/>
        </p:nvPicPr>
        <p:blipFill>
          <a:blip r:embed="rId2"/>
          <a:stretch/>
        </p:blipFill>
        <p:spPr>
          <a:xfrm>
            <a:off x="4846680" y="5419800"/>
            <a:ext cx="2511360" cy="85860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40" descr=""/>
          <p:cNvPicPr/>
          <p:nvPr/>
        </p:nvPicPr>
        <p:blipFill>
          <a:blip r:embed="rId3"/>
          <a:stretch/>
        </p:blipFill>
        <p:spPr>
          <a:xfrm>
            <a:off x="6119640" y="5950080"/>
            <a:ext cx="145116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857160" y="21420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торг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юбовь  как  неж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a7d6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214200" y="1643040"/>
            <a:ext cx="8929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2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Box 30"/>
          <p:cNvSpPr/>
          <p:nvPr/>
        </p:nvSpPr>
        <p:spPr>
          <a:xfrm>
            <a:off x="1928880" y="58579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TextBox 31" descr=""/>
          <p:cNvPicPr/>
          <p:nvPr/>
        </p:nvPicPr>
        <p:blipFill>
          <a:blip r:embed="rId1"/>
          <a:stretch/>
        </p:blipFill>
        <p:spPr>
          <a:xfrm>
            <a:off x="4700520" y="5705640"/>
            <a:ext cx="2370240" cy="860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трелка вниз 35"/>
          <p:cNvSpPr/>
          <p:nvPr/>
        </p:nvSpPr>
        <p:spPr>
          <a:xfrm>
            <a:off x="7000920" y="57862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858960" y="85680"/>
            <a:ext cx="7284960" cy="1523880"/>
          </a:xfrm>
          <a:prstGeom prst="rect">
            <a:avLst/>
          </a:prstGeom>
          <a:ln w="0">
            <a:noFill/>
          </a:ln>
        </p:spPr>
      </p:pic>
      <p:sp>
        <p:nvSpPr>
          <p:cNvPr id="434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0" y="1643040"/>
            <a:ext cx="9144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3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TextBox 31" descr=""/>
          <p:cNvPicPr/>
          <p:nvPr/>
        </p:nvPicPr>
        <p:blipFill>
          <a:blip r:embed="rId2"/>
          <a:stretch/>
        </p:blipFill>
        <p:spPr>
          <a:xfrm>
            <a:off x="4986360" y="5778360"/>
            <a:ext cx="20430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36"/>
          <p:cNvSpPr/>
          <p:nvPr/>
        </p:nvSpPr>
        <p:spPr>
          <a:xfrm>
            <a:off x="0" y="2928960"/>
            <a:ext cx="171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26:54Z</dcterms:created>
  <dc:creator>User</dc:creator>
  <dc:description/>
  <dc:language>en-US</dc:language>
  <cp:lastModifiedBy>Школа</cp:lastModifiedBy>
  <dcterms:modified xsi:type="dcterms:W3CDTF">2018-04-30T10:06:59Z</dcterms:modified>
  <cp:revision>65</cp:revision>
  <dc:subject/>
  <dc:title>Презентация PowerPoint</dc:title>
</cp:coreProperties>
</file>